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9ED2-B554-415C-8E23-7146BBA1E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D8DA-389E-4222-807D-57394B21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6CDB-2587-48A6-A609-D4B83CCA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B21F-C090-463C-A800-2A3A0CCC2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B344-865C-4795-A69E-6B0DCDE7C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3F89-8DCC-4F59-BC70-FCE35294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A747-D512-4123-BBFD-9AC01A8B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7F4D-4875-4EFB-ACD8-1AE881E5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0353-29AE-4F6A-A5F5-CF56DE0C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47DD-E6E9-431E-AE00-CB31B819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CBE2-A8BB-4415-A37F-5878982D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E589-F56C-4496-AEB8-2468579A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4A7E-DB42-4422-80FA-55F3AF5A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B465-6AD0-41FF-BC63-FF54B01C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C2DF-C797-4120-A208-9618C2FC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6763-C99E-46F5-BFFC-A609C0D5B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89BC-C415-40F6-A9F1-C4B0E1362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975EC-00A6-45C3-A9F7-6F7054C0F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DCD30-DBAB-4730-997A-FA288D04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315C7-B39A-44C0-B0F6-A20F1CD7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1FA6A-F54F-4B6C-8773-4B27C8C6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EC42D-13F6-41DF-B919-7F416BE4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9E6B-AE91-46F7-8531-1FA9B4E1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11659-8EA6-4296-A242-49D2122B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CC410-8B59-436F-9537-8A400809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667DC-0815-497C-8509-B6336EAB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DECCF-9460-4AB5-A4D8-E88F7A93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A9DEB-7B99-485A-8584-7EA894C1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5D8CA-45A5-47E5-B795-4C2375805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9243A-539B-4D22-8D71-F05F215ED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A8E7B-345E-4B3E-B732-BA10874D0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1C8BD-CAA6-4762-BDC3-F552A855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F032A-E46E-4887-B1D4-87251DCB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D93B-318D-41F3-9E97-88E41875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F2EDD-E29A-4666-80EA-A146E873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A5579-ED87-49B7-B138-36DC101E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8FEDB-CCDD-4452-BEA3-165D112F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1AA57-06AE-405C-85F2-0A30855C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9A1AD-B2BE-4AE1-8764-A7773ACD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62E16-F3FF-46EE-9A38-7CF032BF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FC61C-7380-4832-8FED-7EC050E4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4E9F2-C4CF-48C4-9A31-0321F2651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4A1EB-90C0-403D-98E8-333E4A01F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C86EF-229A-430D-95DC-C9FE3491A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9C44-DCAF-49B3-B7CE-18FA561E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A3CDC-551F-4756-A3FC-56E7115B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A6125-C44D-46AE-9220-EF76F184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17310-4B96-4687-B7DF-61CCCD45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27807-CF33-4A7F-BF2E-33D97893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FE497-855E-474A-86D3-6AA69609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0E0BE-211C-434C-A57E-E5C7AC25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5CDD3-7F9C-47F8-AD7E-DB42B79E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5C13C-826B-4D1C-A5F9-AB3F3E8F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FE92C-CE2A-42AB-9C8C-7F145337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FF8FA-8692-4EE5-827E-619704289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B2A1-FB44-4E8E-87D9-F4584164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AB960-4988-43D5-9675-BF809F0B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A6281-3E62-4FAC-8C4D-8A73B911C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326D5-A507-44FD-83D5-63063A1D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AA71A-3E49-4FFE-A6A7-77FC840E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CB6F3-DDC9-4912-9746-36CBA3A3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4A8D7-6C19-47AA-9CF0-1E89D233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282CA-1381-41A1-BAF4-FA5A3FBE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F79E2-5690-4544-9ECE-590C658F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0344A-4DB8-4BAC-8A94-2FDE9EE4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D0725-5781-4B58-BF81-8F89190F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FD59-F25C-4997-A18F-7351D555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5100E-6E83-4B93-91A1-B8E795EF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0BF0E-21E2-46AD-BA33-B57958066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CCCC4-C9D6-4BDD-8450-2779A1D08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088B8-7E0D-4C52-8C77-35B65B2B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A46DF-8D57-4D69-B841-874F8FE1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45CCB-D349-48F0-B59D-B0E240C0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EEC2E-A7AF-47C3-87FA-11844F28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8F299-CB8A-4F0B-949C-2079D53B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C2A0D-E930-4208-9EFE-2757D88D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C34DF-5256-4EB6-A06E-DCEB04F2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F8A2-BCAE-4C26-BBC0-BCBD5680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C012B-8D18-4EA8-81F3-3F16E06B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4A266-6722-44CC-AD7A-526A7FA3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5F6E0-B5B4-459F-8CA1-B3DC7BDA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A4EB3-557F-42C3-B3B6-20C2CE10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A9F56-19A9-4D4C-A0BE-DDC08A70D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6151-C589-4B31-AF8E-026F5286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425D-6020-4357-8C02-1FCE30DE331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542D-1620-427A-8450-5B35C34C55A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95C4-FE03-43A0-B20F-03CB3D69D23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0C7E-13EB-4D4C-A793-5E664BDE05D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A56C-3DD4-4652-893C-F22D374A5F9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835F-D22E-495B-8D6E-A9BD7097E60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E8F2-2B36-4956-BD2A-55D859EA046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hyperlink" Target="http://images.google.com/imgres?imgurl=http://hwcdn.net/m5v9i3d8/cds/images/revolver_m1917_colt_700.jpg&amp;imgrefurl=http://www.olive-drab.com/od_other_firearms_pistol_m1917.php3&amp;usg=__4BrG7lmv6paVoPL6RA6W-unN5qU=&amp;h=280&amp;w=504&amp;sz=28&amp;hl=en&amp;start=16&amp;tbnid=iqI4t5oyuBuRPM:&amp;tbnh=72&amp;tbnw=130&amp;prev=/images%3Fq%3Dworld%2Bwar%2B1%2Bpistols%26gbv%3D2%26hl%3Den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iar-arms.com/images/blank1.jpg&amp;imgrefurl=http://www.iar-arms.com/worldwarblanks.htm&amp;usg=__Vptu8DcsZZQv8ZKJ7KSAVoTab0A=&amp;h=265&amp;w=279&amp;sz=8&amp;hl=en&amp;start=1&amp;itbs=1&amp;tbnid=7N4DAq6HRdAFiM:&amp;tbnh=108&amp;tbnw=114&amp;prev=/images%3Fq%3Dworld%2Bwar%2B1%2Bpistols%26gbv%3D2%26hl%3Den%26safe%3Doff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3/3b/Lee-Enfield_Rifle.jpg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rick_oleson.tripod.com/dad/03a3-after.jpg&amp;imgrefurl=http://rick_oleson.tripod.com/dad/gunwork.html&amp;usg=__rr2--hEGPIK_GYQRv9Adi8ez08k=&amp;h=436&amp;w=967&amp;sz=102&amp;hl=en&amp;start=10&amp;um=1&amp;tbnid=ojbjbdRI-LJsoM:&amp;tbnh=67&amp;tbnw=148&amp;prev=/images%3Fq%3Dworld%2Bwar%2B1%2Brifle%26hl%3Den%26rlz%3D1R2ADRA_enUS336%26um%3D1" TargetMode="External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72314"/>
                </a:solidFill>
                <a:latin typeface="Gill Sans MT"/>
              </a:rPr>
              <a:t>Small Guns</a:t>
            </a:r>
            <a:endParaRPr b="0" lang="en-US" sz="7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0e04"/>
                </a:solidFill>
                <a:latin typeface="Gill Sans MT"/>
              </a:rPr>
              <a:t>Malinda Keev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istol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1" name="Picture 11" descr="pistol.jpg"/>
          <p:cNvPicPr/>
          <p:nvPr/>
        </p:nvPicPr>
        <p:blipFill>
          <a:blip r:embed="rId2"/>
          <a:stretch/>
        </p:blipFill>
        <p:spPr>
          <a:xfrm>
            <a:off x="3048120" y="1295280"/>
            <a:ext cx="3547800" cy="4754520"/>
          </a:xfrm>
          <a:prstGeom prst="rect">
            <a:avLst/>
          </a:prstGeom>
          <a:ln w="0">
            <a:noFill/>
          </a:ln>
        </p:spPr>
      </p:pic>
      <p:sp>
        <p:nvSpPr>
          <p:cNvPr id="322" name="TextBox 12"/>
          <p:cNvSpPr/>
          <p:nvPr/>
        </p:nvSpPr>
        <p:spPr>
          <a:xfrm>
            <a:off x="3048120" y="388620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istol used to start World War 1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3" name="" descr="Webley Mark IV revolver"/>
          <p:cNvPicPr/>
          <p:nvPr/>
        </p:nvPicPr>
        <p:blipFill>
          <a:blip r:embed="rId3"/>
          <a:stretch/>
        </p:blipFill>
        <p:spPr>
          <a:xfrm>
            <a:off x="1676520" y="4572000"/>
            <a:ext cx="2438280" cy="15368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6095880" y="4419720"/>
            <a:ext cx="2419560" cy="18144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95280" y="2362320"/>
            <a:ext cx="1524240" cy="8445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7"/>
          <a:stretch/>
        </p:blipFill>
        <p:spPr>
          <a:xfrm>
            <a:off x="6934320" y="2362320"/>
            <a:ext cx="14475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ree Types of Pistol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8" name="Picture 6" descr="http://t3.gstatic.com/images?q=tbn:7N4DAq6HRdAFiM:http://www.iar-arms.com/images/blank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1523880"/>
            <a:ext cx="2057400" cy="1947960"/>
          </a:xfrm>
          <a:prstGeom prst="rect">
            <a:avLst/>
          </a:prstGeom>
          <a:ln w="0">
            <a:noFill/>
          </a:ln>
        </p:spPr>
      </p:pic>
      <p:sp>
        <p:nvSpPr>
          <p:cNvPr id="329" name="TextBox 15"/>
          <p:cNvSpPr/>
          <p:nvPr/>
        </p:nvSpPr>
        <p:spPr>
          <a:xfrm>
            <a:off x="5867280" y="35812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German blowback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4"/>
          <a:stretch/>
        </p:blipFill>
        <p:spPr>
          <a:xfrm>
            <a:off x="3657600" y="4038480"/>
            <a:ext cx="2514600" cy="19227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962520" y="60199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5"/>
          <a:stretch/>
        </p:blipFill>
        <p:spPr>
          <a:xfrm>
            <a:off x="1447920" y="1515960"/>
            <a:ext cx="2666880" cy="18255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1828800" y="3657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olver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ifl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1371600" y="1676520"/>
            <a:ext cx="2838600" cy="39621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4876920" y="388620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4572000" y="838080"/>
            <a:ext cx="3886200" cy="29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ypes of Rifl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9" name="" descr="File:Lee-Enfield Rifl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38280" y="1600200"/>
            <a:ext cx="4953240" cy="11574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886200" y="2895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e-Enfiel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4"/>
          <a:stretch/>
        </p:blipFill>
        <p:spPr>
          <a:xfrm>
            <a:off x="1600200" y="3751200"/>
            <a:ext cx="2971800" cy="22384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4876920" y="48006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"/>
          <p:cNvSpPr/>
          <p:nvPr/>
        </p:nvSpPr>
        <p:spPr>
          <a:xfrm>
            <a:off x="1752480" y="4038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us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4" name="" descr="whole 1903"/>
          <p:cNvPicPr/>
          <p:nvPr/>
        </p:nvPicPr>
        <p:blipFill>
          <a:blip r:embed="rId5"/>
          <a:stretch/>
        </p:blipFill>
        <p:spPr>
          <a:xfrm>
            <a:off x="5105520" y="3581280"/>
            <a:ext cx="3047760" cy="195768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5410080" y="57150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1903 Springfie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ore Gu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76520" y="1981080"/>
            <a:ext cx="2971800" cy="13464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4876920" y="1828800"/>
            <a:ext cx="3531960" cy="40384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5"/>
          <a:stretch/>
        </p:blipFill>
        <p:spPr>
          <a:xfrm>
            <a:off x="1676520" y="3352680"/>
            <a:ext cx="28954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 LAND OF SHADOW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66320" y="914400"/>
            <a:ext cx="7497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09960" indent="-240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ritten upon Viewing “Obama’s War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     (the Frontline video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In the land of shadows, smoke and s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Let us pra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here the gods are ages old, cracked and shak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Let us pra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Give me your hand and I will help you up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But this is Quett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and I dare not trust you for tomor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Let us pra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atch the feet.  They tell the st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tramping over empty  roads or 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the shade of stone cliffs rising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Let us pra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They came and burned the market.  Who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The land here opens to a hollow sky and dus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Small arms fire from a distance.  Once my s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Now fire behind my back and let us pra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here?  Where?  Over there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here you are, over here?   No, there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here did you go?  Once you were he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Let us pra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hy in hell don’t you speak Englis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so I can understand?   I want to sa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e came to help you.  I’m your friend.  What is the word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Now let us pra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e’re here to help, I said, to help!  But we have nothing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hy did you come?  Why don’t you go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All politics is local. I here.  You the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Let us pray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ork Cite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"BATTLES , WEAPONS, AND TECHNOLOGY OF WORLD WAR ONE."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THE FIRST MODERN WAR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Organization, Web. 2 Dec 2009.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http://www.sachem.edu/schools/seneca/socialstudies/guttman/per1/weapons/index.html&gt;.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Brouwer, R. "Weapons of the First World War."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World War One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. 2009. Web. 2 Dec 2009.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http://www.worldwar1.nl/&gt;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Butler, Don. "The War That Haunts Us Still."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OttawaCitizen.com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. 2009. Canwest Publishing, Web. 1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Dec 2009. &lt;http://images.google.com/imgres?imgurl=http://media.canada.com/96274514-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e813-4c74-972a-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d2d9b889001/somme.jpg&amp;imgrefurl=http://www2.canada.com/ottawacitizen/features/remembr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ance/story.html%3Fid%3D4d04db42-7392-436c-bbb1-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989b18a4bffc&amp;usg=__Hxz07sKU5p08iank4JbsoGR8yUk=&amp;h=375&amp;w=375&amp;sz=102&amp;hl=en&amp;sta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rt=3&amp;um=1&amp;tbnid=dlyXFt0g4RXcfM:&amp;tbnh=122&amp;tbnw=122&amp;prev=/images%3Fq%3Dworld%2B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ar%2B1%2B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Duffy, Michael. "Weapons of War - Pistols."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First World War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. 2009. Original material, Web. 1 Dec 2009.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http://www.firstworldwar.com/weaponry/pistols.htm&gt;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Emmerich, Kirk. "M1903 Springfield U.S. Army Service Rifle.."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Sword and Musket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. 6 Fed 2008. Web. 2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Dec 2009. &lt;http://images.google.com/imgres?imgurl=http://www.kirkemmerich.co.uk/wp-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content/uploads/2008/02/1903-springfield-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038.jpg&amp;imgrefurl=http://www.kirkemmerich.co.uk/fac-rifles/m1903-springfield-us-army-service-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rifle/&amp;usg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Hickman, Kennedy. "Military History."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About.com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. 2009. The New York Times Company, Web. 1 Dec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2009. &lt;http://militaryhistory.about.com/od/smallarms/Small_Arms_Personal_Weapons.htm&gt;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7:32:38Z</dcterms:created>
  <dc:creator>WCPSS</dc:creator>
  <dc:description/>
  <dc:language>en-US</dc:language>
  <cp:lastModifiedBy>Homepc100</cp:lastModifiedBy>
  <dcterms:modified xsi:type="dcterms:W3CDTF">2009-12-02T20:48:40Z</dcterms:modified>
  <cp:revision>10</cp:revision>
  <dc:subject/>
  <dc:title>Small Guns</dc:title>
</cp:coreProperties>
</file>