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CE6B-5B81-43DC-9FD8-BBB9E8BA7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2DB4-E1DF-4846-93C7-0FF143CD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FC9C-BCA0-464F-8C8A-9993158D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ABD1-5756-446A-948D-C660812B5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742E-6983-4F9E-9581-2950808B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80BF-A320-42BD-8F8B-B508B028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70B4-C876-465E-AF92-21D533C3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F1C1-26B1-4071-A583-5420836E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9A7B-D619-49EB-9542-42336874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1D3A-4DE0-4B2B-8FD3-FCDE4D02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FCB5-4C96-490D-B83D-84839069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E663-DEE9-4A31-B568-92AF2AFD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C2C4-482B-4413-96C6-5DF0E619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5EEE-DE95-49D3-B93C-E55E32D9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DBBB-01BA-4CAE-80BC-ED57C282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FD13-323F-4236-9446-81CD80B2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8A35-032C-41A7-BF3A-FEE41DFA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B6AA2-2CC1-4538-B705-0D5B470C5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D926B-D825-4EA6-9654-CF2C7143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710D2-11C0-49C9-B2DA-E8F8D88A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739F6-3217-4B75-A35A-A0473742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A953A-B828-40CE-B6D1-422EFEA7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BAAF-689E-4421-BA24-AC60D4A8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0929F-BD9D-4C4D-A026-1D34ADAE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053A7-00C6-4CC7-B18B-366C2AEB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9ACB4-5145-459E-8E7B-A932BA13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9DFB5-EF36-4EE8-AC6E-1B9D48D0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C3474-5BE1-4B12-9DEF-E30E565A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1AD3E-5C28-490B-955D-1E33A8B9C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7C9FD-900D-4116-9883-58B04ABF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05B4C-EFAB-4DBB-86AF-038C2B30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D70B8-A12A-4A8B-868B-39EBDD7E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2DD2F-590E-434D-8B16-DB0B1D8F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C09C-7FE5-4E8D-8E2C-2515B119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E4FD6-8353-4352-B677-D424536E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7FB45-3D6D-4784-8F0A-536F63A5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3C220-FD29-4455-A9A3-D8BDA205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ECDB6-AD71-4DAF-8C40-CD72C75C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082D5-F373-4C73-BD67-F6F69213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67B5A-F10E-4ACB-88BE-67F8FFAC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40469-1B9F-4C5A-8B13-2DDDF4C8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0B61D-4608-4F7D-8A4B-56DDAC75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3E6FB-BBED-4ABA-B65F-9134C44D2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651AA-949F-4DB5-87D3-DF8DD281C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6680-3FBA-4478-830D-F6C20EF2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99987-2C18-4035-9AC0-7B68EC45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C77A3-A51E-4C4D-9DA1-97BD1FA9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06DCA-515B-4EC3-AD89-D4B24784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39361-75D8-4357-938F-7994D740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F5CC1-34BA-4DCA-B65E-92886319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583C2-CCE2-4662-B86E-13A3823D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F01FA-4C8B-4B7F-91EC-A3921871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899F9-F1E5-4166-98A9-DBD7BD6E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7EBFC-AED2-4105-A435-3175C57A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879C2-DCCA-49F6-8DB8-13CFE167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1220-E83B-439D-803D-77EEC972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1F8C7-3D45-428A-B79F-976EBEB8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923C9-4BD0-487D-AE90-692659C6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FEAAE-1697-4DF9-B779-90E2F5EF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F2E85-FCA4-4BE2-B623-BD0E7F47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17727-9AB8-4F73-AA77-31BA27DE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97E8F-1863-4F6E-A23F-8A3033C5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5C2B3-0C5D-4445-A3F8-2E298458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881CB-FAF1-49BE-9319-53F183C6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2E47E-D9C0-46C2-B02D-46A5C39B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9C9FF-84B8-479A-9748-7D62B59F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0C09-8434-4738-99FC-9E8A878B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B5FB9-3FE1-4583-9771-42A6CD24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61446-B3E9-49F9-A150-ECBF04D8C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E31A8-A610-4296-9323-53AFCB146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CBE3-33AD-496C-9BD8-24EE0E00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2683-9F65-41CA-88DD-4ABD9447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4D08-9E7E-4F4D-BA74-2C1D3B41340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8E80-A084-4EA3-ABE1-3E09FB3B193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EFEE-ED0A-4182-A616-AC92DCDCEBF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9E2B-4D46-4897-99ED-6854709AAD4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B5F2-ACDD-4723-97BA-39BADFB6BD3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3C6D-F669-4EE1-B928-FC5EFBEB7C3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istory1900s.about.com/od/1910s/a/christmastruce.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378000" y="1847880"/>
            <a:ext cx="8126280" cy="16081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89548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ish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43671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official cessations of hostilities that occurred on Christmas Day between German and British in WW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2" descr="http://www.greatwardifferent.com/Great_War/Christmas_in_the_Trenches/Copy%20of%20Christmas_in_the_Trenches_09.jpg"/>
          <p:cNvPicPr/>
          <p:nvPr/>
        </p:nvPicPr>
        <p:blipFill>
          <a:blip r:embed="rId1"/>
          <a:stretch/>
        </p:blipFill>
        <p:spPr>
          <a:xfrm>
            <a:off x="4438800" y="1932120"/>
            <a:ext cx="4340160" cy="32558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http://g-images.amazon.com/images/G/01/askville/109564_762954_mywrite/truce.jpg"/>
          <p:cNvPicPr/>
          <p:nvPr/>
        </p:nvPicPr>
        <p:blipFill>
          <a:blip r:embed="rId2"/>
          <a:stretch/>
        </p:blipFill>
        <p:spPr>
          <a:xfrm>
            <a:off x="990720" y="3429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" descr="460x268_WWI_Soldiers"/>
          <p:cNvPicPr/>
          <p:nvPr/>
        </p:nvPicPr>
        <p:blipFill>
          <a:blip r:embed="rId1"/>
          <a:stretch/>
        </p:blipFill>
        <p:spPr>
          <a:xfrm>
            <a:off x="4724280" y="2895480"/>
            <a:ext cx="3200400" cy="304812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10"/>
          <p:cNvSpPr/>
          <p:nvPr/>
        </p:nvSpPr>
        <p:spPr>
          <a:xfrm>
            <a:off x="457200" y="1219320"/>
            <a:ext cx="4191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istmas truce in western fro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12" descr="IMAG004"/>
          <p:cNvPicPr/>
          <p:nvPr/>
        </p:nvPicPr>
        <p:blipFill>
          <a:blip r:embed="rId2"/>
          <a:stretch/>
        </p:blipFill>
        <p:spPr>
          <a:xfrm>
            <a:off x="685800" y="2209680"/>
            <a:ext cx="3200400" cy="3276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4" descr="http://johnfenzel.typepad.com/john_fenzels_blog/images/western_front.jpg"/>
          <p:cNvPicPr/>
          <p:nvPr/>
        </p:nvPicPr>
        <p:blipFill>
          <a:blip r:embed="rId3"/>
          <a:stretch/>
        </p:blipFill>
        <p:spPr>
          <a:xfrm>
            <a:off x="4572000" y="457200"/>
            <a:ext cx="3152880" cy="20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0" y="990360"/>
            <a:ext cx="2286000" cy="198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Map detailing the principal location of Christmas truce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4" name="Picture 5" descr="xmas1914_map_l"/>
          <p:cNvPicPr/>
          <p:nvPr/>
        </p:nvPicPr>
        <p:blipFill>
          <a:blip r:embed="rId1"/>
          <a:stretch/>
        </p:blipFill>
        <p:spPr>
          <a:xfrm>
            <a:off x="685800" y="1295280"/>
            <a:ext cx="3733920" cy="44751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dugout_ger_l"/>
          <p:cNvPicPr/>
          <p:nvPr/>
        </p:nvPicPr>
        <p:blipFill>
          <a:blip r:embed="rId2"/>
          <a:stretch/>
        </p:blipFill>
        <p:spPr>
          <a:xfrm>
            <a:off x="6858000" y="685800"/>
            <a:ext cx="1633680" cy="22096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149176_f248"/>
          <p:cNvPicPr/>
          <p:nvPr/>
        </p:nvPicPr>
        <p:blipFill>
          <a:blip r:embed="rId3"/>
          <a:stretch/>
        </p:blipFill>
        <p:spPr>
          <a:xfrm>
            <a:off x="4724280" y="2971800"/>
            <a:ext cx="381024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19360" y="4419360"/>
            <a:ext cx="4267080" cy="990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Four unarmed Germans 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8" name="Picture 6" descr="German and Russian soldiers together on the Eastern front, Christmas 1914"/>
          <p:cNvPicPr/>
          <p:nvPr/>
        </p:nvPicPr>
        <p:blipFill>
          <a:blip r:embed="rId1"/>
          <a:stretch/>
        </p:blipFill>
        <p:spPr>
          <a:xfrm>
            <a:off x="4876920" y="838080"/>
            <a:ext cx="2514600" cy="26672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Two Territorials of London Rifle Brigade with Saxon troops of the 104th and 106th Regiments in No Man's Land near Ploegsteert Wood during the unofficial Christmas Truce"/>
          <p:cNvPicPr/>
          <p:nvPr/>
        </p:nvPicPr>
        <p:blipFill>
          <a:blip r:embed="rId2"/>
          <a:stretch/>
        </p:blipFill>
        <p:spPr>
          <a:xfrm>
            <a:off x="990720" y="3352680"/>
            <a:ext cx="2971800" cy="2600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British soldiers bringing in Christmas holly"/>
          <p:cNvPicPr/>
          <p:nvPr/>
        </p:nvPicPr>
        <p:blipFill>
          <a:blip r:embed="rId3"/>
          <a:stretch/>
        </p:blipFill>
        <p:spPr>
          <a:xfrm>
            <a:off x="1219320" y="838080"/>
            <a:ext cx="2004840" cy="20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germancomrades1415_l"/>
          <p:cNvPicPr/>
          <p:nvPr/>
        </p:nvPicPr>
        <p:blipFill>
          <a:blip r:embed="rId1"/>
          <a:stretch/>
        </p:blipFill>
        <p:spPr>
          <a:xfrm>
            <a:off x="4572000" y="380880"/>
            <a:ext cx="3124080" cy="2954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Xmas19141"/>
          <p:cNvPicPr/>
          <p:nvPr/>
        </p:nvPicPr>
        <p:blipFill>
          <a:blip r:embed="rId2"/>
          <a:stretch/>
        </p:blipFill>
        <p:spPr>
          <a:xfrm>
            <a:off x="4800600" y="4267080"/>
            <a:ext cx="2133720" cy="138924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9"/>
          <p:cNvSpPr/>
          <p:nvPr/>
        </p:nvSpPr>
        <p:spPr>
          <a:xfrm>
            <a:off x="990720" y="1219320"/>
            <a:ext cx="2514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itle 1"/>
          <p:cNvSpPr/>
          <p:nvPr/>
        </p:nvSpPr>
        <p:spPr>
          <a:xfrm>
            <a:off x="304920" y="457200"/>
            <a:ext cx="33526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Most retellings of  Truce finish with the soldiers returning to their trenches and again f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2" descr="http://static.howstuffworks.com/gif/christmas-truce-1.jpg"/>
          <p:cNvPicPr/>
          <p:nvPr/>
        </p:nvPicPr>
        <p:blipFill>
          <a:blip r:embed="rId3"/>
          <a:stretch/>
        </p:blipFill>
        <p:spPr>
          <a:xfrm>
            <a:off x="685800" y="2819520"/>
            <a:ext cx="30290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" descr="149140_f496"/>
          <p:cNvPicPr/>
          <p:nvPr/>
        </p:nvPicPr>
        <p:blipFill>
          <a:blip r:embed="rId1"/>
          <a:stretch/>
        </p:blipFill>
        <p:spPr>
          <a:xfrm>
            <a:off x="380880" y="1066680"/>
            <a:ext cx="3765600" cy="486756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6"/>
          <p:cNvSpPr/>
          <p:nvPr/>
        </p:nvSpPr>
        <p:spPr>
          <a:xfrm>
            <a:off x="762120" y="126540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4724280" y="11275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 the war went on, events of Christmas became increasing surreal to those who are not the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12" descr="Christmas_in_the_Trenches_2_04_500.jpg"/>
          <p:cNvPicPr/>
          <p:nvPr/>
        </p:nvPicPr>
        <p:blipFill>
          <a:blip r:embed="rId2"/>
          <a:stretch/>
        </p:blipFill>
        <p:spPr>
          <a:xfrm>
            <a:off x="4800600" y="2590920"/>
            <a:ext cx="32767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438280" y="761760"/>
            <a:ext cx="5486400" cy="6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Edwardian Script ITC"/>
              </a:rPr>
              <a:t>In Loving Memory</a:t>
            </a:r>
            <a:br>
              <a:rPr sz="1700"/>
            </a:b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28600" y="144792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n every soldier’s tombstone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should be a message of honor, respect and love: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"In loving memory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f one who loved his country,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who fought against evil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o preserve what is right and true and good.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In loving memory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f one who is a cut above the rest of us,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who had the surpassing courage,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he uncommon strength,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o do whatever had to be done,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persevering through hardship and pain.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In loving memory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f one who was brave enough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o give his life, his all,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so that those he cared about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would remain safe and free.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In loving memory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f a unique and treasured soldier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who will never be forgotten."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</a:t>
            </a:r>
            <a:r>
              <a:rPr b="0" i="1" lang="en-US" sz="1300" spc="-1" strike="noStrike">
                <a:solidFill>
                  <a:srgbClr val="ffffff"/>
                </a:solidFill>
                <a:latin typeface="Arial"/>
              </a:rPr>
              <a:t>By Joanna Fuch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ork Cite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5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://history1900s.about.com/od/1910s/a/christmastruce.ht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militaryhistory.about.com/od/worldwari/p/xmastruce.htm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think-in-pictures.com/2007/12/25/christmas-truce-december-1914/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europeanhistory.about.com/od/worldwar1/a/dyk12.htm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www.alittlechristmasmagic.com/Christmas_Truc.htm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history.howstuffworks.com/world-war-i/christmas-truce1.htm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1:25:32Z</dcterms:created>
  <dc:creator>Bhargavi n Vaishnavi</dc:creator>
  <dc:description/>
  <dc:language>en-US</dc:language>
  <cp:lastModifiedBy>WCPSS</cp:lastModifiedBy>
  <dcterms:modified xsi:type="dcterms:W3CDTF">2009-12-03T16:28:40Z</dcterms:modified>
  <cp:revision>5</cp:revision>
  <dc:subject/>
  <dc:title>Christmas Truce</dc:title>
</cp:coreProperties>
</file>