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FFF-345E-4644-90E7-042F452A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4C2-2BC7-429E-9053-22D54FBE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056-8F3F-4308-8783-95EB377A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B3B-2E91-4B4A-9AF2-6BDC180C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C67B-54C9-4896-8687-D32B80B9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4322-5222-414D-A8EB-700B7721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137F-4A60-4B01-9B88-C1CEF40B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D212-54C9-4E3C-A788-208F0B56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8BDF-C513-48D2-A2E0-BD48EFC6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3665-7DCB-4344-AE6E-65CD1AAC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F000-C7C1-4D1B-8982-D0212567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B10-20D4-4F2D-93B8-1A8203BB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3CD4-64B9-4F09-9C0C-307F36BA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D158-71F0-43DE-B689-E330A1D3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8869-781F-4D33-BBE7-2E844085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279A-E652-4721-ACF9-FF0F5A54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7A1B-7CFA-4748-9EB1-600ACF28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6CA0B-47B9-4F4D-8885-03F50FC6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EFB7-5FB4-4108-8631-29A347CD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31366-C4C8-4349-93EC-E60FE78E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1FD78-1F2D-47E0-B164-8A3EF7CF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82D8F-DB31-4151-A86A-4A0547A5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C98-AE22-4967-A123-EE49BBE2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AA97C-1A79-4F0D-AA7F-585A0746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AA64F-F981-4232-A00A-4BA9C080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73FF2-BFA6-4666-92A6-D4CA5B32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DF3FC-1C37-421C-B975-5EF4EBA9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4E90D-F4EC-4EF0-B4D8-041453EC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BBADE-EC65-401C-AB4E-0901D87A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A0981-577F-42CB-92CB-723E6EE5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BDC3A-28DE-46C1-ACB3-F17702F2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F0F18-98B6-4287-80B0-0FD40EE2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805C6-F002-4B13-828C-42521B0B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088-3E38-44B4-9D31-686B5811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E97F6-0C31-4F24-8294-8B362955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07F2F-3BE2-4D15-B23D-D6AF95D9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F4970-7AA7-4B62-BA5C-B218449A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43E9C-0CBE-4A30-BF3F-3896024F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8BECD-E50F-442B-921E-64143997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1EB0A-7D55-4169-B2EB-E4CA6FB0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020FB-311E-4FF0-A7D9-DF9BA3E4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9CF08-EFBB-4FAD-AD83-7A02DCD2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8A918-7F2A-49E3-B22C-8C7F3F90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D9637-F930-41B1-B4F4-7D0876FD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3E7-DDB2-43CB-9C0C-B37F1583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61CC1-E8D5-4EDA-98B4-DFA49AAD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EC4F5-C3DE-4370-B4BC-F37454D5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0495D-45A1-47D6-A4AC-5083FDE0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4FFDB-CC59-48A5-9E72-85B8B51E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8032E-B3D5-4597-AB54-15FECC55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E39CE-CC0B-45D2-84C0-43BB08FF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762A6-7713-4BBB-8012-37CF7144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080C5-9E97-439C-A58B-544923D5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6F89D-DD6B-4B8F-A62C-785E7C34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1DF5E-F405-4996-811B-673A8CE3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475-20AD-45A8-B4D5-2FFA3D9C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5A6EC-84D9-4822-A494-4B209656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ADA00-8B27-4200-AA6B-7614668B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78AF9-BA33-41E5-9B25-B6604C38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4E4F8-39D1-4390-81F1-81CDA2E7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97520-5682-4EAA-AECC-44F7E366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8E2E0-6AF8-4B48-A418-8B64341B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4ED12-9B50-440E-8C1C-61ACEFA0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00984-9118-4F30-BC39-0391C4DE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ECD9B-F972-45EA-857E-C9EA9F54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947A1-AEB4-497A-865C-6717D5DB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8C5-6EF6-4036-9E60-7CBE7B00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54329-9E7E-4222-8EAE-35F3D7D5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C5861-9373-447F-BBE6-5961F177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8C749-8565-4AF8-804B-A461AE0F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3FDD-C620-4258-89C9-9F4D1EEF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A93-1A83-4926-A5BB-0701FEF5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B5DD-61F1-4E85-804B-3DB2E276F97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6A22-1652-4F51-8279-8DCD792EB89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679A-7869-4B32-AEE2-06AB709A4BB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1A93-B797-498A-9637-DB3D42DDED3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7610-A8CD-4A5D-BA84-E417E2951B8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22C9-C598-4604-8DB4-A12033481E6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istory1900s.about.com/od/1910s/a/christmastruce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378000" y="1847880"/>
            <a:ext cx="8126280" cy="16081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is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4367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official cessations of hostilities that occurred on Christmas Day between German and British in WW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2" descr="http://www.greatwardifferent.com/Great_War/Christmas_in_the_Trenches/Copy%20of%20Christmas_in_the_Trenches_09.jpg"/>
          <p:cNvPicPr/>
          <p:nvPr/>
        </p:nvPicPr>
        <p:blipFill>
          <a:blip r:embed="rId1"/>
          <a:stretch/>
        </p:blipFill>
        <p:spPr>
          <a:xfrm>
            <a:off x="4438800" y="1932120"/>
            <a:ext cx="4340160" cy="3255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://g-images.amazon.com/images/G/01/askville/109564_762954_mywrite/truce.jpg"/>
          <p:cNvPicPr/>
          <p:nvPr/>
        </p:nvPicPr>
        <p:blipFill>
          <a:blip r:embed="rId2"/>
          <a:stretch/>
        </p:blipFill>
        <p:spPr>
          <a:xfrm>
            <a:off x="990720" y="3429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" descr="460x268_WWI_Soldiers"/>
          <p:cNvPicPr/>
          <p:nvPr/>
        </p:nvPicPr>
        <p:blipFill>
          <a:blip r:embed="rId1"/>
          <a:stretch/>
        </p:blipFill>
        <p:spPr>
          <a:xfrm>
            <a:off x="4724280" y="28954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0"/>
          <p:cNvSpPr/>
          <p:nvPr/>
        </p:nvSpPr>
        <p:spPr>
          <a:xfrm>
            <a:off x="457200" y="1219320"/>
            <a:ext cx="4191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mas truce in western fr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12" descr="IMAG004"/>
          <p:cNvPicPr/>
          <p:nvPr/>
        </p:nvPicPr>
        <p:blipFill>
          <a:blip r:embed="rId2"/>
          <a:stretch/>
        </p:blipFill>
        <p:spPr>
          <a:xfrm>
            <a:off x="685800" y="2209680"/>
            <a:ext cx="3200400" cy="3276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4" descr="http://johnfenzel.typepad.com/john_fenzels_blog/images/western_front.jpg"/>
          <p:cNvPicPr/>
          <p:nvPr/>
        </p:nvPicPr>
        <p:blipFill>
          <a:blip r:embed="rId3"/>
          <a:stretch/>
        </p:blipFill>
        <p:spPr>
          <a:xfrm>
            <a:off x="4572000" y="457200"/>
            <a:ext cx="3152880" cy="20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0" y="990360"/>
            <a:ext cx="2286000" cy="198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Map detailing the principal location of Christmas truce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Picture 5" descr="xmas1914_map_l"/>
          <p:cNvPicPr/>
          <p:nvPr/>
        </p:nvPicPr>
        <p:blipFill>
          <a:blip r:embed="rId1"/>
          <a:stretch/>
        </p:blipFill>
        <p:spPr>
          <a:xfrm>
            <a:off x="685800" y="1295280"/>
            <a:ext cx="3733920" cy="4475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dugout_ger_l"/>
          <p:cNvPicPr/>
          <p:nvPr/>
        </p:nvPicPr>
        <p:blipFill>
          <a:blip r:embed="rId2"/>
          <a:stretch/>
        </p:blipFill>
        <p:spPr>
          <a:xfrm>
            <a:off x="6858000" y="685800"/>
            <a:ext cx="1633680" cy="2209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149176_f248"/>
          <p:cNvPicPr/>
          <p:nvPr/>
        </p:nvPicPr>
        <p:blipFill>
          <a:blip r:embed="rId3"/>
          <a:stretch/>
        </p:blipFill>
        <p:spPr>
          <a:xfrm>
            <a:off x="4724280" y="297180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19360" y="4419360"/>
            <a:ext cx="4267080" cy="99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Four unarmed Germans 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Picture 6" descr="German and Russian soldiers together on the Eastern front, Christmas 1914"/>
          <p:cNvPicPr/>
          <p:nvPr/>
        </p:nvPicPr>
        <p:blipFill>
          <a:blip r:embed="rId1"/>
          <a:stretch/>
        </p:blipFill>
        <p:spPr>
          <a:xfrm>
            <a:off x="4876920" y="838080"/>
            <a:ext cx="2514600" cy="2667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Two Territorials of London Rifle Brigade with Saxon troops of the 104th and 106th Regiments in No Man's Land near Ploegsteert Wood during the unofficial Christmas Truce"/>
          <p:cNvPicPr/>
          <p:nvPr/>
        </p:nvPicPr>
        <p:blipFill>
          <a:blip r:embed="rId2"/>
          <a:stretch/>
        </p:blipFill>
        <p:spPr>
          <a:xfrm>
            <a:off x="990720" y="3352680"/>
            <a:ext cx="2971800" cy="2600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British soldiers bringing in Christmas holly"/>
          <p:cNvPicPr/>
          <p:nvPr/>
        </p:nvPicPr>
        <p:blipFill>
          <a:blip r:embed="rId3"/>
          <a:stretch/>
        </p:blipFill>
        <p:spPr>
          <a:xfrm>
            <a:off x="1219320" y="838080"/>
            <a:ext cx="200484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germancomrades1415_l"/>
          <p:cNvPicPr/>
          <p:nvPr/>
        </p:nvPicPr>
        <p:blipFill>
          <a:blip r:embed="rId1"/>
          <a:stretch/>
        </p:blipFill>
        <p:spPr>
          <a:xfrm>
            <a:off x="4572000" y="380880"/>
            <a:ext cx="3124080" cy="2954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Xmas19141"/>
          <p:cNvPicPr/>
          <p:nvPr/>
        </p:nvPicPr>
        <p:blipFill>
          <a:blip r:embed="rId2"/>
          <a:stretch/>
        </p:blipFill>
        <p:spPr>
          <a:xfrm>
            <a:off x="4800600" y="4267080"/>
            <a:ext cx="2133720" cy="13892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9"/>
          <p:cNvSpPr/>
          <p:nvPr/>
        </p:nvSpPr>
        <p:spPr>
          <a:xfrm>
            <a:off x="990720" y="1219320"/>
            <a:ext cx="25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tle 1"/>
          <p:cNvSpPr/>
          <p:nvPr/>
        </p:nvSpPr>
        <p:spPr>
          <a:xfrm>
            <a:off x="304920" y="457200"/>
            <a:ext cx="3352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Most retellings of  Truce finish with the soldiers returning to their trenches and again f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http://static.howstuffworks.com/gif/christmas-truce-1.jpg"/>
          <p:cNvPicPr/>
          <p:nvPr/>
        </p:nvPicPr>
        <p:blipFill>
          <a:blip r:embed="rId3"/>
          <a:stretch/>
        </p:blipFill>
        <p:spPr>
          <a:xfrm>
            <a:off x="685800" y="2819520"/>
            <a:ext cx="30290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149140_f496"/>
          <p:cNvPicPr/>
          <p:nvPr/>
        </p:nvPicPr>
        <p:blipFill>
          <a:blip r:embed="rId1"/>
          <a:stretch/>
        </p:blipFill>
        <p:spPr>
          <a:xfrm>
            <a:off x="380880" y="1066680"/>
            <a:ext cx="3765600" cy="48675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762120" y="126540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4724280" y="11275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the war went on, events of Christmas became increasing surreal to those who are not the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12" descr="Christmas_in_the_Trenches_2_04_500.jpg"/>
          <p:cNvPicPr/>
          <p:nvPr/>
        </p:nvPicPr>
        <p:blipFill>
          <a:blip r:embed="rId2"/>
          <a:stretch/>
        </p:blipFill>
        <p:spPr>
          <a:xfrm>
            <a:off x="4800600" y="2590920"/>
            <a:ext cx="32767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5486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dwardian Script ITC"/>
              </a:rPr>
              <a:t>In Loving Memory</a:t>
            </a:r>
            <a:br>
              <a:rPr sz="1700"/>
            </a:b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28600" y="14479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n every soldier’s tombstone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hould be a message of honor, respect and love: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"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loved his country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fought against evil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preserve what is right and true and good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is a cut above the rest of us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had the surpassing courage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e uncommon strength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do whatever had to be done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ersevering through hardship and pain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was brave enough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give his life, his all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o that those he cared abou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ould remain safe and free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a unique and treasured soldier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will never be forgotten."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</a:t>
            </a: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By Joanna Fuch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ork Cite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history1900s.about.com/od/1910s/a/christmastruce.ht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militaryhistory.about.com/od/worldwari/p/xmastruce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think-in-pictures.com/2007/12/25/christmas-truce-december-1914/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europeanhistory.about.com/od/worldwar1/a/dyk12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alittlechristmasmagic.com/Christmas_Truc.htm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history.howstuffworks.com/world-war-i/christmas-truce1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25:32Z</dcterms:created>
  <dc:creator>Bhargavi n Vaishnavi</dc:creator>
  <dc:description/>
  <dc:language>en-US</dc:language>
  <cp:lastModifiedBy>WCPSS</cp:lastModifiedBy>
  <dcterms:modified xsi:type="dcterms:W3CDTF">2009-12-03T16:28:40Z</dcterms:modified>
  <cp:revision>5</cp:revision>
  <dc:subject/>
  <dc:title>Christmas Truce</dc:title>
</cp:coreProperties>
</file>