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FCB-7A4B-4116-A135-F2951466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ADE-6683-490D-821B-04098B7C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A3C9-217D-41F2-85B0-6CE20BAE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1FFB-E41B-453D-9A54-EAC3FEA2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C9E0-CC0C-4785-985C-B9335576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0605-D3F6-4599-AA16-D78F6CDD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7B01-EB86-4781-9101-C5169A41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235E-2871-4AC6-BDDF-11694A1B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B27E-0536-4AAF-9B29-292E9F3E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3CC6-DC3E-4B81-BA57-0F1911F7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2DE8-FD15-43A4-AF7F-4C577FA6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6121-AFC9-4076-AAEF-DE6E5895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9807-1567-4CD1-AC47-0F12DFD2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63D7-98F1-456C-9E94-3F3F9F79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96BF-BB4A-4839-B5D5-15860234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C725-7986-4BBE-8BFE-DBA05816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DD4B-2EE2-445D-98EA-A4141186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E5D56-58CA-42BF-B583-C5BFB000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1C762-139A-4092-BD66-18297E26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CEF9F-32D4-4B34-A370-AACA3785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1CDDD-A0B3-4B2F-BF68-7EC42D11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10815-B985-4103-9B0C-43C1C868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15C-987E-45EB-9F00-DD4C40C6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068B4-8F67-4B37-9232-7AF20F8D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05526-805E-49CF-8BCC-CCB025B2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60776-72CA-455D-991E-317EFBC9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EDF2B-927B-49C3-8D8E-864A43EF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8C382-4295-471A-B71F-0CD59134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8745C-F548-487E-97B6-8531591C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BABFD-C9A8-41C6-A5DF-7E8A0C6D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C3C6F-BA37-477E-9511-1C2DED8B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945F8-4335-4717-9CCB-FF0C6624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738AD-1F9E-4D5D-AAEF-9AA59EE1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730B-4D2F-4C1F-BB60-CE9822E3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8A703-D6DE-43F5-A448-12192D8C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AB98D-1CE5-4576-B000-9C901EA7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C56B4-6F8A-4A4A-A8BF-8ABDC5E6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99A57-9DDA-4BEF-ABE5-50AB75C9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C3C62-BC31-4DF4-B860-D5DC201F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30C2A-D63C-4B87-A6F5-79D39545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1A991-7F46-49EC-9D80-12FBBB6F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75D30-6800-437A-8706-0DA91061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A0CE9-1644-4E9E-AD89-D50A0E45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8398A-4E10-4143-96AA-15B761EC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7299-E019-473B-9376-A08EFCDE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9B65C-7042-4033-9037-2DFEF9A8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FF76D-A326-4DFC-8D8E-3B7F8D92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F16D9-486E-40DD-B525-A4663628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9006F-8DFA-400B-9939-10CDD0D8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5F3AE-3D18-44E6-B13C-BB6B9986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0C5F0-62BA-4319-97A7-EDCD8BD0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4B69A-C443-4CE4-B420-7121303C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110E9-10EF-49FF-9853-B4299CC9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11981-9DB2-4998-8118-AE7809AB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7D09A-A512-459B-B56C-F1C266AA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491C-7C70-41B1-85A3-1AF3AC02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DF066-99B3-4C8D-A66A-7BE9244F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3F520-43B8-450A-8140-49A5E997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1D72E-B0AB-4F61-A311-02E51774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95772-D8C2-4C80-90E0-8900E1A8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2B3CD-A9E8-473E-AF07-DC4C07D4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10AD5-9AF9-45C3-A924-E8469272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36BDD-2FB6-4049-8963-85ABAFEE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E1022-B3A3-4DF8-A2F1-B03C1ABE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9A5D7-DA98-4D88-B90B-85734AA1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F1B27-AE24-4756-80A8-F9403D15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B12-8E39-4D60-B9B9-9CFA32EB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7FA11-7E5B-4525-AA6B-B425F7BB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762F0-908A-4104-8870-63E8B9E9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68568-90A0-48B8-B79E-AD6E2656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3C79-42D6-4ED2-AD0F-6B7E372B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6FF-DEAA-4C0B-9D1D-075A3F67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26DC-AB22-4BFD-87A0-9F2167CD5F0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33A4-57D6-48AD-B722-CFF64B92DA2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6FDC-B074-4D98-B20F-2E58C9BE6A0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0F13-CE97-4B18-819D-D2AB7B76126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C35B-CDCD-427E-BBD7-E62766C8A6C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5F79-4825-4DC7-AEAA-F3845A9F8A5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istory1900s.about.com/od/1910s/a/christmastruce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378000" y="1847880"/>
            <a:ext cx="8126280" cy="16081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is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43671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official cessations of hostilities that occurred on Christmas Day between German and British in WW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2" descr="http://www.greatwardifferent.com/Great_War/Christmas_in_the_Trenches/Copy%20of%20Christmas_in_the_Trenches_09.jpg"/>
          <p:cNvPicPr/>
          <p:nvPr/>
        </p:nvPicPr>
        <p:blipFill>
          <a:blip r:embed="rId1"/>
          <a:stretch/>
        </p:blipFill>
        <p:spPr>
          <a:xfrm>
            <a:off x="4438800" y="1932120"/>
            <a:ext cx="4340160" cy="3255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http://g-images.amazon.com/images/G/01/askville/109564_762954_mywrite/truce.jpg"/>
          <p:cNvPicPr/>
          <p:nvPr/>
        </p:nvPicPr>
        <p:blipFill>
          <a:blip r:embed="rId2"/>
          <a:stretch/>
        </p:blipFill>
        <p:spPr>
          <a:xfrm>
            <a:off x="990720" y="3429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" descr="460x268_WWI_Soldiers"/>
          <p:cNvPicPr/>
          <p:nvPr/>
        </p:nvPicPr>
        <p:blipFill>
          <a:blip r:embed="rId1"/>
          <a:stretch/>
        </p:blipFill>
        <p:spPr>
          <a:xfrm>
            <a:off x="4724280" y="28954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0"/>
          <p:cNvSpPr/>
          <p:nvPr/>
        </p:nvSpPr>
        <p:spPr>
          <a:xfrm>
            <a:off x="457200" y="1219320"/>
            <a:ext cx="4191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mas truce in western fro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12" descr="IMAG004"/>
          <p:cNvPicPr/>
          <p:nvPr/>
        </p:nvPicPr>
        <p:blipFill>
          <a:blip r:embed="rId2"/>
          <a:stretch/>
        </p:blipFill>
        <p:spPr>
          <a:xfrm>
            <a:off x="685800" y="2209680"/>
            <a:ext cx="3200400" cy="3276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4" descr="http://johnfenzel.typepad.com/john_fenzels_blog/images/western_front.jpg"/>
          <p:cNvPicPr/>
          <p:nvPr/>
        </p:nvPicPr>
        <p:blipFill>
          <a:blip r:embed="rId3"/>
          <a:stretch/>
        </p:blipFill>
        <p:spPr>
          <a:xfrm>
            <a:off x="4572000" y="457200"/>
            <a:ext cx="3152880" cy="20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0" y="990360"/>
            <a:ext cx="2286000" cy="198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Map detailing the principal location of Christmas truce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4" name="Picture 5" descr="xmas1914_map_l"/>
          <p:cNvPicPr/>
          <p:nvPr/>
        </p:nvPicPr>
        <p:blipFill>
          <a:blip r:embed="rId1"/>
          <a:stretch/>
        </p:blipFill>
        <p:spPr>
          <a:xfrm>
            <a:off x="685800" y="1295280"/>
            <a:ext cx="3733920" cy="4475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dugout_ger_l"/>
          <p:cNvPicPr/>
          <p:nvPr/>
        </p:nvPicPr>
        <p:blipFill>
          <a:blip r:embed="rId2"/>
          <a:stretch/>
        </p:blipFill>
        <p:spPr>
          <a:xfrm>
            <a:off x="6858000" y="685800"/>
            <a:ext cx="1633680" cy="22096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149176_f248"/>
          <p:cNvPicPr/>
          <p:nvPr/>
        </p:nvPicPr>
        <p:blipFill>
          <a:blip r:embed="rId3"/>
          <a:stretch/>
        </p:blipFill>
        <p:spPr>
          <a:xfrm>
            <a:off x="4724280" y="2971800"/>
            <a:ext cx="38102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19360" y="4419360"/>
            <a:ext cx="4267080" cy="99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Four unarmed Germans 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8" name="Picture 6" descr="German and Russian soldiers together on the Eastern front, Christmas 1914"/>
          <p:cNvPicPr/>
          <p:nvPr/>
        </p:nvPicPr>
        <p:blipFill>
          <a:blip r:embed="rId1"/>
          <a:stretch/>
        </p:blipFill>
        <p:spPr>
          <a:xfrm>
            <a:off x="4876920" y="838080"/>
            <a:ext cx="2514600" cy="2667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Two Territorials of London Rifle Brigade with Saxon troops of the 104th and 106th Regiments in No Man's Land near Ploegsteert Wood during the unofficial Christmas Truce"/>
          <p:cNvPicPr/>
          <p:nvPr/>
        </p:nvPicPr>
        <p:blipFill>
          <a:blip r:embed="rId2"/>
          <a:stretch/>
        </p:blipFill>
        <p:spPr>
          <a:xfrm>
            <a:off x="990720" y="3352680"/>
            <a:ext cx="2971800" cy="2600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British soldiers bringing in Christmas holly"/>
          <p:cNvPicPr/>
          <p:nvPr/>
        </p:nvPicPr>
        <p:blipFill>
          <a:blip r:embed="rId3"/>
          <a:stretch/>
        </p:blipFill>
        <p:spPr>
          <a:xfrm>
            <a:off x="1219320" y="838080"/>
            <a:ext cx="2004840" cy="20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germancomrades1415_l"/>
          <p:cNvPicPr/>
          <p:nvPr/>
        </p:nvPicPr>
        <p:blipFill>
          <a:blip r:embed="rId1"/>
          <a:stretch/>
        </p:blipFill>
        <p:spPr>
          <a:xfrm>
            <a:off x="4572000" y="380880"/>
            <a:ext cx="3124080" cy="2954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Xmas19141"/>
          <p:cNvPicPr/>
          <p:nvPr/>
        </p:nvPicPr>
        <p:blipFill>
          <a:blip r:embed="rId2"/>
          <a:stretch/>
        </p:blipFill>
        <p:spPr>
          <a:xfrm>
            <a:off x="4800600" y="4267080"/>
            <a:ext cx="2133720" cy="13892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9"/>
          <p:cNvSpPr/>
          <p:nvPr/>
        </p:nvSpPr>
        <p:spPr>
          <a:xfrm>
            <a:off x="990720" y="1219320"/>
            <a:ext cx="25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itle 1"/>
          <p:cNvSpPr/>
          <p:nvPr/>
        </p:nvSpPr>
        <p:spPr>
          <a:xfrm>
            <a:off x="304920" y="457200"/>
            <a:ext cx="3352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Most retellings of  Truce finish with the soldiers returning to their trenches and again f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http://static.howstuffworks.com/gif/christmas-truce-1.jpg"/>
          <p:cNvPicPr/>
          <p:nvPr/>
        </p:nvPicPr>
        <p:blipFill>
          <a:blip r:embed="rId3"/>
          <a:stretch/>
        </p:blipFill>
        <p:spPr>
          <a:xfrm>
            <a:off x="685800" y="2819520"/>
            <a:ext cx="30290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149140_f496"/>
          <p:cNvPicPr/>
          <p:nvPr/>
        </p:nvPicPr>
        <p:blipFill>
          <a:blip r:embed="rId1"/>
          <a:stretch/>
        </p:blipFill>
        <p:spPr>
          <a:xfrm>
            <a:off x="380880" y="1066680"/>
            <a:ext cx="3765600" cy="48675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6"/>
          <p:cNvSpPr/>
          <p:nvPr/>
        </p:nvSpPr>
        <p:spPr>
          <a:xfrm>
            <a:off x="762120" y="126540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4724280" y="11275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the war went on, events of Christmas became increasing surreal to those who are not the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12" descr="Christmas_in_the_Trenches_2_04_500.jpg"/>
          <p:cNvPicPr/>
          <p:nvPr/>
        </p:nvPicPr>
        <p:blipFill>
          <a:blip r:embed="rId2"/>
          <a:stretch/>
        </p:blipFill>
        <p:spPr>
          <a:xfrm>
            <a:off x="4800600" y="2590920"/>
            <a:ext cx="32767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8280" y="761760"/>
            <a:ext cx="54864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Edwardian Script ITC"/>
              </a:rPr>
              <a:t>In Loving Memory</a:t>
            </a:r>
            <a:br>
              <a:rPr sz="1700"/>
            </a:b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28600" y="14479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n every soldier’s tombstone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hould be a message of honor, respect and love: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"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one who loved his country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ho fought against evil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o preserve what is right and true and good.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one who is a cut above the rest of us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ho had the surpassing courage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e uncommon strength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o do whatever had to be done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ersevering through hardship and pain.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one who was brave enough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o give his life, his all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o that those he cared abou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ould remain safe and free.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a unique and treasured soldier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ho will never be forgotten."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</a:t>
            </a: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By Joanna Fuch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ork Cite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history1900s.about.com/od/1910s/a/christmastruce.ht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militaryhistory.about.com/od/worldwari/p/xmastruce.ht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think-in-pictures.com/2007/12/25/christmas-truce-december-1914/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europeanhistory.about.com/od/worldwar1/a/dyk12.ht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alittlechristmasmagic.com/Christmas_Truc.htm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history.howstuffworks.com/world-war-i/christmas-truce1.ht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1:25:32Z</dcterms:created>
  <dc:creator>Bhargavi n Vaishnavi</dc:creator>
  <dc:description/>
  <dc:language>en-US</dc:language>
  <cp:lastModifiedBy>WCPSS</cp:lastModifiedBy>
  <dcterms:modified xsi:type="dcterms:W3CDTF">2009-12-03T16:28:40Z</dcterms:modified>
  <cp:revision>5</cp:revision>
  <dc:subject/>
  <dc:title>Christmas Truce</dc:title>
</cp:coreProperties>
</file>