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9CA1-A867-44EB-B240-7D3385B63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BAD-4520-4B05-8EA6-AD487C77B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3EB-D689-4735-90E8-60A26475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CA5-64F8-483B-A5BB-E3FBFBF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833-426A-4183-9527-FC4C3E87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9E8-F41E-40C9-8F4E-295FD2DB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255-9841-44F0-B46B-F92AA7B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5EA-38CB-49AD-8CBE-0D8A24B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AE1-453A-4F04-9C43-4CF0B7BB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86C-48BC-410C-BC65-C811DD97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AD4-BD09-4372-AE45-B0ABCA1D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EE7-1FFA-497B-99FE-A1DD4C1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3FB-71FD-4428-82C3-DDE5F05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5BF-9E59-44F8-B038-36F89D00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BBB-12D5-4BEA-9B87-CE5F7A107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581280" y="9907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Trench Warf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opolicraticus.files.wordpress.com/2009/01/trenches.jpg"/>
          <p:cNvPicPr/>
          <p:nvPr/>
        </p:nvPicPr>
        <p:blipFill>
          <a:blip r:embed="rId2"/>
          <a:stretch/>
        </p:blipFill>
        <p:spPr>
          <a:xfrm>
            <a:off x="0" y="0"/>
            <a:ext cx="3352680" cy="449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treefrogtreasures.com/forum/attachment.php?attachmentid=23244&amp;stc=1&amp;d=1227145484"/>
          <p:cNvPicPr/>
          <p:nvPr/>
        </p:nvPicPr>
        <p:blipFill>
          <a:blip r:embed="rId3"/>
          <a:stretch/>
        </p:blipFill>
        <p:spPr>
          <a:xfrm>
            <a:off x="4191120" y="3598920"/>
            <a:ext cx="49528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t0.gstatic.com/images?q=tbn:j2McYdXUnhnZzM:http://en.academic.ru/pictures/enwiki/84/Trench_foot.jpg"/>
          <p:cNvPicPr/>
          <p:nvPr/>
        </p:nvPicPr>
        <p:blipFill>
          <a:blip r:embed="rId1"/>
          <a:stretch/>
        </p:blipFill>
        <p:spPr>
          <a:xfrm>
            <a:off x="5638680" y="152280"/>
            <a:ext cx="312444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umanillnesses.com/original/images/hdc_0001_0002_0_img0108.jpg"/>
          <p:cNvPicPr/>
          <p:nvPr/>
        </p:nvPicPr>
        <p:blipFill>
          <a:blip r:embed="rId2"/>
          <a:stretch/>
        </p:blipFill>
        <p:spPr>
          <a:xfrm>
            <a:off x="762120" y="380880"/>
            <a:ext cx="348120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914400" y="3962520"/>
            <a:ext cx="3200400" cy="218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419720" y="47242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TRENCH F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i.ehow.com/images/GlobalPhoto/Articles/4554496/brown-rat-main_Full.jpg"/>
          <p:cNvPicPr/>
          <p:nvPr/>
        </p:nvPicPr>
        <p:blipFill>
          <a:blip r:embed="rId2"/>
          <a:stretch/>
        </p:blipFill>
        <p:spPr>
          <a:xfrm>
            <a:off x="5334120" y="3457440"/>
            <a:ext cx="3809880" cy="34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sonicbomb.com/albums/album58/trench_rats.jpg"/>
          <p:cNvPicPr/>
          <p:nvPr/>
        </p:nvPicPr>
        <p:blipFill>
          <a:blip r:embed="rId3"/>
          <a:stretch/>
        </p:blipFill>
        <p:spPr>
          <a:xfrm>
            <a:off x="3562200" y="0"/>
            <a:ext cx="55818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 rot="919200">
            <a:off x="400320" y="1744560"/>
            <a:ext cx="46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nprior"/>
              </a:rPr>
              <a:t>TRENCH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thelearningcentre.org/ww1/images/waterfilledtrench.jpg"/>
          <p:cNvPicPr/>
          <p:nvPr/>
        </p:nvPicPr>
        <p:blipFill>
          <a:blip r:embed="rId4"/>
          <a:stretch/>
        </p:blipFill>
        <p:spPr>
          <a:xfrm>
            <a:off x="685800" y="2666880"/>
            <a:ext cx="251460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rench "/>
          <p:cNvPicPr/>
          <p:nvPr/>
        </p:nvPicPr>
        <p:blipFill>
          <a:blip r:embed="rId2"/>
          <a:stretch/>
        </p:blipFill>
        <p:spPr>
          <a:xfrm>
            <a:off x="3343320" y="0"/>
            <a:ext cx="58006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http://www.harris-academy.com/departments/history/Trenches/danielh/daniel11.jpg"/>
          <p:cNvPicPr/>
          <p:nvPr/>
        </p:nvPicPr>
        <p:blipFill>
          <a:blip r:embed="rId3"/>
          <a:stretch/>
        </p:blipFill>
        <p:spPr>
          <a:xfrm>
            <a:off x="0" y="2652840"/>
            <a:ext cx="5562720" cy="4205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85800" y="914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MUD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038480" y="2514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867280" y="4800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T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www.harris-academy.com/departments/history/Trenches/danielh/daniel8.jpg"/>
          <p:cNvPicPr/>
          <p:nvPr/>
        </p:nvPicPr>
        <p:blipFill>
          <a:blip r:embed="rId2"/>
          <a:stretch/>
        </p:blipFill>
        <p:spPr>
          <a:xfrm>
            <a:off x="0" y="0"/>
            <a:ext cx="46134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www.harris-academy.com/departments/history/Trenches/danielh/daniel26.jpg"/>
          <p:cNvPicPr/>
          <p:nvPr/>
        </p:nvPicPr>
        <p:blipFill>
          <a:blip r:embed="rId3"/>
          <a:stretch/>
        </p:blipFill>
        <p:spPr>
          <a:xfrm>
            <a:off x="4651200" y="2286000"/>
            <a:ext cx="449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01000" y="502200"/>
            <a:ext cx="754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t pouring, it's raining down on 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h pits outside the oval off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's trying to tell us something, maybe this is God just say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re responsible for this monster, this coward, that we have empowe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n Laden, look at his head nodding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we allow something like this, Without pumping our fi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is our, final h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be the voice, and your strength, and your cho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simplify the rhyme, just to amplify the 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amplify the times it, and multiply it by s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 million people are equal of this high pi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we can reach Al Quaida through my spee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President answer on high anarch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 him with AK-47, let him 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 his own war, let him impress daddy that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blood for oil, we got our own battles to fight on our soi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psychological warfare to trick us to think that we ain't loy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on't serve our own country we're patronizing a h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in his eyes, it's all lies, the stars and strip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've been swiped, washed out and wipe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placed with his own face, mosh now or di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28600" y="228600"/>
            <a:ext cx="8458200" cy="60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enim, . "Eminem Anti-War, Anti-Bush Video Out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lk Lef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Oct 25, 2004 . TalkLeft.com, Web. 1 Dec 2009. &lt;http://www.talkleft.com/story/2004/10/26/923/28131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eopolicraticus.files.wordpress.com/2009/01/trenc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ages.google.com/imgres?imgurl=http://www.harris-academy.com/departments/history/Trenches/danielh/daniel26.jpg&amp;imgrefurl=http://www.harris-academy.com/departments/history/Trenches/danielh/danielh.3.htm&amp;usg=__SNvEA5Ccbn82f_agZ-XpNAED_JQ=&amp;h=289&amp;w=284&amp;sz=21&amp;hl=en&amp;start=3&amp;tbnid=LPEu2Pc-BHXwYM:&amp;tbnh=115&amp;tbnw=113&amp;prev=/images%3Fq%3Dtrench%2Bwarfare%2Bdiagram%26gbv%3D2%26ndsp%3D20%26hl%3Den%26sa%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igwags.files.wordpress.com/2008/09/warfare-trenc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quiet1.tripod.com/sitebuildercontent/sitebuilderpictures/trenches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arris-academy.com/departments/history/Trenches/Joanna/Image29we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g.dailymail.co.uk/i/pix/2007/10_02/trenchPA_468x6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freepages.military.rootsweb.ancestry.com/~cfgamblesresearch/ARMY%20CAREERS/WORLD%20WAR%20ONE/OLD%20COMTEMPTIBLES_bestanden/image0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1:54Z</dcterms:created>
  <dc:creator>WCPSS</dc:creator>
  <dc:description/>
  <dc:language>en-US</dc:language>
  <cp:lastModifiedBy>WCPSS</cp:lastModifiedBy>
  <dcterms:modified xsi:type="dcterms:W3CDTF">2009-12-02T17:04:54Z</dcterms:modified>
  <cp:revision>10</cp:revision>
  <dc:subject/>
  <dc:title>Slide 1</dc:title>
</cp:coreProperties>
</file>