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1755-A51D-473A-9C41-A362F4A51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FFAA-9D9A-46A1-9C8D-F263CE4BB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15FF-6D41-474E-8F5E-5D80E245E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F15C-DDAF-4840-9497-C9929EDBE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E80D-C9B8-4336-BCC5-35BE6F055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826C-AB3A-4B6F-9BC1-ECB64CDD44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FF7B-5E1F-4B30-AA23-47F8233E7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E2F9-9A02-4443-8D39-5BD058EBB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C704-E0D8-4F18-B953-EE51DA44B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66F5-EAB7-4CEB-8A3E-871D1F542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4F1D-A528-408A-AFD2-7240546A5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E48E-1617-40E8-B626-1AC605D4B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CA7D-B90C-465B-95A2-4068BE566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E636-EE76-4522-B9C1-1211EA062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5EB6-9069-4F68-8290-AC45BA4E4A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6D50-2CAD-454E-A9B7-C3F19F8CAF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78F5-55FD-4C06-9642-5CD5BA3B8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807F-C013-46F0-B504-B406D949B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C3D3-DB6C-4262-A8D5-F6DF65295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1000-43A2-4505-B7FE-E9540910B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5C1A-0AB6-4760-A845-1319DB887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0358-10C1-4DE9-97AF-F30ABF95C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39FC-7FAC-4987-A356-E8D0CFC1B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0BE3-0C58-462F-9456-1AAE43EF1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8CF3-12A7-4E13-ABA4-06C5D589FCF3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00addc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52E-5978-4304-85A2-E5A4DF3E33E6}" type="slidenum">
              <a: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Gallipoli_Campaign" TargetMode="External"/><Relationship Id="rId4" Type="http://schemas.openxmlformats.org/officeDocument/2006/relationships/hyperlink" Target="http://militaryhistory.about.com/od/worldwari/p/gallipoli.htm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856-924C-402B-A4E2-74CDBA7351BC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"/>
                <a:ea typeface="Trebuchet MS"/>
              </a:rPr>
              <a:t>World War One-Battle of Gallipoli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Ken F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72388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Battle of Gallipoli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ocation: Gallipoli peninsula, Turke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ate: 25 April 1915 – 6 January 191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5360" y="88884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733560" cy="26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57800" y="472428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Who fought in this battle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19623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5680" y="3765600"/>
            <a:ext cx="965160" cy="48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79360" y="4317840"/>
            <a:ext cx="111780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122076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6760" y="5956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209680" y="2840040"/>
            <a:ext cx="1608120" cy="11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305080" y="4254480"/>
            <a:ext cx="1006560" cy="67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6200" y="34290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VERSU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21160" y="1633680"/>
            <a:ext cx="1816200" cy="12110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435640" y="3211560"/>
            <a:ext cx="1892160" cy="11318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384880" y="4770360"/>
            <a:ext cx="2006640" cy="133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3" name=""/>
          <p:cNvSpPr/>
          <p:nvPr/>
        </p:nvSpPr>
        <p:spPr>
          <a:xfrm>
            <a:off x="736560" y="1181160"/>
            <a:ext cx="81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559840" y="1079640"/>
            <a:ext cx="163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entral Pow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5240" y="1649520"/>
            <a:ext cx="3708360" cy="354492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600" y="357120"/>
            <a:ext cx="72388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y did they figh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29200" y="1581120"/>
            <a:ext cx="2984400" cy="367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1905120" y="5740560"/>
            <a:ext cx="354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apture Istanbul and secure sea route to Russia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34F3-5231-4A08-A049-FB7445796C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-47520"/>
            <a:ext cx="723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Significance 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11760" y="1062000"/>
            <a:ext cx="4508280" cy="337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920" y="154944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NZAC Da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9840" y="5587920"/>
            <a:ext cx="3179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id grounds for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urkish War of Independ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8520" y="2324160"/>
            <a:ext cx="3935520" cy="25527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395520" y="4381560"/>
            <a:ext cx="4415040" cy="241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480" y="1663560"/>
            <a:ext cx="3889080" cy="45212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87720" y="1219320"/>
            <a:ext cx="3936960" cy="50799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o proposed this idea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740560"/>
            <a:ext cx="798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French Minister of Justice Aristide Briand in November 1914, later, Churhil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CB72-544F-412F-8D6B-1E7F5A074A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“</a:t>
            </a: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The year the blackbirds Died” by christian war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4" name=""/>
          <p:cNvSpPr/>
          <p:nvPr/>
        </p:nvSpPr>
        <p:spPr>
          <a:xfrm>
            <a:off x="1987920" y="2133720"/>
            <a:ext cx="3877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84280" tIns="0" bIns="0" anchor="t">
            <a:spAutoFit/>
          </a:bodyPr>
          <a:p>
            <a:pPr marL="127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y found the birds impal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on white picket fence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in fist-sized nooses, circl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like trapeze artists tr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o find the safety ne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lumped over tables, wing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hoarding nests of pill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And all the while, ca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were waiting outsid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ir scratching trem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rying to eke out conf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from empty mouth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40AE-2832-4D69-8D00-1A8B225C1C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17720" y="255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ork cite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Gallipoli Campaign." Wikipedia . December 2009. Wikipedia, Web. 1 Dec 2009.                                                           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http://en.wikipedia.org/wiki/Gallipoli_Campaign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Hickman, Kennedy . "World War I: Battle of Gallipoli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About.co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9. The New York Time Company, Web. 1 Dec 2009.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4"/>
              </a:rPr>
              <a:t>http://militaryhistory.about.com/od/worldwari/p/gallipoli.ht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The Battle of Gallipoli - World War One 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DefenceTalk Foru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7. Defence Talk, Web. 1 Dec 2009. &lt;</a:t>
            </a:r>
            <a:r>
              <a:rPr b="0" lang="en-US" sz="1600" spc="-1" strike="noStrike" u="sng">
                <a:solidFill>
                  <a:srgbClr val="242424"/>
                </a:solidFill>
                <a:uFillTx/>
                <a:latin typeface="Verdana"/>
                <a:ea typeface="Verdana"/>
              </a:rPr>
              <a:t>http://images.google.com/imgres?imgurl=http://www.defencetalk.com/pictures/data/4826/WW1_10A.jpg&amp;imgrefurl=http://www.defencetalk.com/pictures/showphoto.php/photo/23662&amp;usg=__oLy2xkLWSNy0R_n-f3oyg7IDYQk=&amp;h=374&amp;w=500&amp;sz=79&amp;hl=en&amp;start=6&amp;um=1&amp;tbnid=QmXKjQeAPo-w5M:&amp;tbnh=97&amp;tbnw=130&amp;prev=/images%3Fq%3Dbattle%2Bof%2Bgallipoli%26hl%3Den%26client%3Dsafari%26rls%3Den%26sa%3DN%26um%3D1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F15B-0B17-4817-A4F3-CEBE8783A47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dc:language>en-US</dc:language>
  <cp:lastModifiedBy/>
  <cp:revision>0</cp:revision>
  <dc:subject/>
  <dc:title>Battle of Gallipoli</dc:title>
</cp:coreProperties>
</file>