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B157-7EBA-4662-B53B-5E77B8C5C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3EAA-E257-4CEF-BF94-E6D4B3AD8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DA21-8AC4-4DE7-853B-CDA4D8BC7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0484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248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0484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35248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3C6A-C204-48CD-8AEA-7D2F085B6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90B6-7C79-48D1-AD0B-9075C43673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0DCB-C359-46D7-A5BB-0DDA4B47B0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A74AC-2469-4CBE-8BFC-FC10A5AD56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0E67-DF1D-44AC-8B52-DB43F00AA2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EFEA2-A253-44CD-9338-5D50ABFECE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186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F61F7-37E3-43BE-9A84-A1D1596EC7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A5EB-F8A3-43A5-B661-2B518E895D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25C9-E63E-4626-AC49-2EF21E143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1C419-C91B-4128-AE49-06A48484F8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90FBF-A002-4CC4-9B84-184870C59E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7F0B-E7FA-4324-939C-FAAEE79E4F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F28B2-5670-4C58-967C-40ACF5E428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90484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5248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90484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35248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5D608-DB90-4D3C-9445-1ED3BC15BB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EAAF-A683-48BF-8D30-2F7381BBD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16C3-1922-4E90-BEED-8CCC17F9F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D960-B642-4EB8-9E0E-8F095B13E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186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1D3F-EC8B-48C2-A68A-61CD7F659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5C51-DBA0-4B36-9468-7D0C428DB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09F1-3BA7-4F85-B4E8-90297AA53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C612-CE8C-4BBD-8995-779C6BE24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5280" y="0"/>
            <a:ext cx="51051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f8fc"/>
                </a:solidFill>
                <a:latin typeface="Trebuchet MS Bold"/>
              </a:rPr>
              <a:t>Click to edit the title text format</a:t>
            </a:r>
            <a:endParaRPr b="0" lang="en-US" sz="42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54120" y="3538080"/>
            <a:ext cx="51130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17820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5640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53460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71316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71316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71316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0844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3E4B-03F3-4D8D-9CE6-F83EB17E7F64}" type="slidenum">
              <a: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Click to edit the title text format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482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2072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9669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41280" indent="-228600">
              <a:spcBef>
                <a:spcPts val="601"/>
              </a:spcBef>
              <a:buClr>
                <a:srgbClr val="00addc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41280" indent="-228600">
              <a:spcBef>
                <a:spcPts val="601"/>
              </a:spcBef>
              <a:buClr>
                <a:srgbClr val="ffffff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41280" indent="-228600">
              <a:spcBef>
                <a:spcPts val="601"/>
              </a:spcBef>
              <a:buClr>
                <a:srgbClr val="ffffff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67980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rebuchet MS"/>
                <a:ea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9EEE-0BBA-4BC1-9DDE-EF8A4AEC72BA}" type="slidenum">
              <a:rPr b="0" lang="en-US" sz="1100" spc="-1" strike="noStrike">
                <a:solidFill>
                  <a:srgbClr val="d6ecff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en.wikipedia.org/wiki/Gallipoli_Campaign" TargetMode="External"/><Relationship Id="rId4" Type="http://schemas.openxmlformats.org/officeDocument/2006/relationships/hyperlink" Target="http://militaryhistory.about.com/od/worldwari/p/gallipoli.htm" TargetMode="External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66880" y="0"/>
            <a:ext cx="64771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0844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25FA-3A4C-45F7-9DA8-F4803695711C}" type="slidenum">
              <a: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65280" y="0"/>
            <a:ext cx="51051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f8fc"/>
                </a:solidFill>
                <a:latin typeface="Trebuchet MS"/>
                <a:ea typeface="Trebuchet MS"/>
              </a:rPr>
              <a:t>World War One-Battle of Gallipoli</a:t>
            </a:r>
            <a:endParaRPr b="0" lang="en-US" sz="42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54120" y="3538080"/>
            <a:ext cx="51130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Ken Fa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eriod 3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72388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"/>
                <a:ea typeface="Trebuchet MS"/>
              </a:rPr>
              <a:t>Battle of Gallipoli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33920" cy="274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Location: Gallipoli peninsula, Turkey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ate: 25 April 1915 – 6 January 1916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35360" y="888840"/>
            <a:ext cx="3276720" cy="3733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04920" y="3886200"/>
            <a:ext cx="3733560" cy="2627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257800" y="4724280"/>
            <a:ext cx="37339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"/>
                <a:ea typeface="Trebuchet MS"/>
              </a:rPr>
              <a:t>Who fought in this battle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52280" y="1752480"/>
            <a:ext cx="196236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04920" y="30481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55680" y="3765600"/>
            <a:ext cx="965160" cy="482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79360" y="4317840"/>
            <a:ext cx="1117800" cy="559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28600" y="5143680"/>
            <a:ext cx="122076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266760" y="59562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2209680" y="2840040"/>
            <a:ext cx="1608120" cy="1176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2305080" y="4254480"/>
            <a:ext cx="1006560" cy="67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86200" y="3429000"/>
            <a:ext cx="1143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VERSU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5321160" y="1633680"/>
            <a:ext cx="1816200" cy="121104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5435640" y="3211560"/>
            <a:ext cx="1892160" cy="113184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5384880" y="4770360"/>
            <a:ext cx="2006640" cy="13366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3" name=""/>
          <p:cNvSpPr/>
          <p:nvPr/>
        </p:nvSpPr>
        <p:spPr>
          <a:xfrm>
            <a:off x="736560" y="1181160"/>
            <a:ext cx="812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Alli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"/>
          <p:cNvSpPr/>
          <p:nvPr/>
        </p:nvSpPr>
        <p:spPr>
          <a:xfrm>
            <a:off x="5559840" y="1079640"/>
            <a:ext cx="163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Central Power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5240" y="1649520"/>
            <a:ext cx="3708360" cy="354492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4600" y="357120"/>
            <a:ext cx="723888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Why did they fight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029200" y="1581120"/>
            <a:ext cx="2984400" cy="36766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9" name=""/>
          <p:cNvSpPr/>
          <p:nvPr/>
        </p:nvSpPr>
        <p:spPr>
          <a:xfrm>
            <a:off x="1905120" y="5740560"/>
            <a:ext cx="354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Capture Istanbul and secure sea route to Russia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5071-698B-4ADE-9210-2ADB160764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9880" y="-47520"/>
            <a:ext cx="723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"/>
                <a:ea typeface="Trebuchet MS"/>
              </a:rPr>
              <a:t>Significance 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11760" y="1062000"/>
            <a:ext cx="4508280" cy="3373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13920" y="1549440"/>
            <a:ext cx="121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ANZAC Da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"/>
          <p:cNvSpPr/>
          <p:nvPr/>
        </p:nvSpPr>
        <p:spPr>
          <a:xfrm>
            <a:off x="69840" y="5587920"/>
            <a:ext cx="3179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Laid grounds for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Turkish War of Independe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8520" y="2324160"/>
            <a:ext cx="3935520" cy="25527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395520" y="4381560"/>
            <a:ext cx="4415040" cy="24130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0480" y="1663560"/>
            <a:ext cx="3889080" cy="452124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987720" y="1219320"/>
            <a:ext cx="3936960" cy="50799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19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who proposed this idea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21" name=""/>
          <p:cNvSpPr/>
          <p:nvPr/>
        </p:nvSpPr>
        <p:spPr>
          <a:xfrm>
            <a:off x="77040" y="5740560"/>
            <a:ext cx="798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French Minister of Justice Aristide Briand in November 1914, later, Churhil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8CEA-8A8A-43E9-AE62-17FC55B1281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“</a:t>
            </a: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The year the blackbirds Died” by christian ward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24" name=""/>
          <p:cNvSpPr/>
          <p:nvPr/>
        </p:nvSpPr>
        <p:spPr>
          <a:xfrm>
            <a:off x="1987920" y="2133720"/>
            <a:ext cx="38775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84280" tIns="0" bIns="0" anchor="t">
            <a:spAutoFit/>
          </a:bodyPr>
          <a:p>
            <a:pPr marL="127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They found the birds impal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on white picket fence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in fist-sized nooses, circl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like trapeze artists try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to find the safety ne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slumped over tables, wing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hoarding nests of pill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And all the while, ca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were waiting outsid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their scratching tremo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trying to eke out confessio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from empty mouths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62451-B0F3-4E1C-AE1D-44D843FC48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17720" y="255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Work cited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"Gallipoli Campaign." Wikipedia . December 2009. Wikipedia, Web. 1 Dec 2009.                                                            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3"/>
              </a:rPr>
              <a:t>http://en.wikipedia.org/wiki/Gallipoli_Campaign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Hickman, Kennedy . "World War I: Battle of Gallipoli." </a:t>
            </a:r>
            <a:r>
              <a:rPr b="0" lang="en-US" sz="1600" spc="-1" strike="noStrike">
                <a:solidFill>
                  <a:srgbClr val="242424"/>
                </a:solidFill>
                <a:latin typeface="Verdana Italic"/>
                <a:ea typeface="Verdana Italic"/>
              </a:rPr>
              <a:t>About.com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. 2009. The New York Time Company, Web. 1 Dec 2009. 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4"/>
              </a:rPr>
              <a:t>http://militaryhistory.about.com/od/worldwari/p/gallipoli.htm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"The Battle of Gallipoli - World War One ." </a:t>
            </a:r>
            <a:r>
              <a:rPr b="0" lang="en-US" sz="1600" spc="-1" strike="noStrike">
                <a:solidFill>
                  <a:srgbClr val="242424"/>
                </a:solidFill>
                <a:latin typeface="Verdana Italic"/>
                <a:ea typeface="Verdana Italic"/>
              </a:rPr>
              <a:t>DefenceTalk Forum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. 2007. Defence Talk, Web. 1 Dec 2009. &lt;</a:t>
            </a:r>
            <a:r>
              <a:rPr b="0" lang="en-US" sz="1600" spc="-1" strike="noStrike" u="sng">
                <a:solidFill>
                  <a:srgbClr val="242424"/>
                </a:solidFill>
                <a:uFillTx/>
                <a:latin typeface="Verdana"/>
                <a:ea typeface="Verdana"/>
              </a:rPr>
              <a:t>http://images.google.com/imgres?imgurl=http://www.defencetalk.com/pictures/data/4826/WW1_10A.jpg&amp;imgrefurl=http://www.defencetalk.com/pictures/showphoto.php/photo/23662&amp;usg=__oLy2xkLWSNy0R_n-f3oyg7IDYQk=&amp;h=374&amp;w=500&amp;sz=79&amp;hl=en&amp;start=6&amp;um=1&amp;tbnid=QmXKjQeAPo-w5M:&amp;tbnh=97&amp;tbnw=130&amp;prev=/images%3Fq%3Dbattle%2Bof%2Bgallipoli%26hl%3Den%26client%3Dsafari%26rls%3Den%26sa%3DN%26um%3D1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8D9BA-627B-4E45-8FA1-655343338567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CPSS</dc:creator>
  <dc:description/>
  <dc:language>en-US</dc:language>
  <cp:lastModifiedBy/>
  <cp:revision>0</cp:revision>
  <dc:subject/>
  <dc:title>Battle of Gallipoli</dc:title>
</cp:coreProperties>
</file>