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A3C8-9035-452E-9471-3BDFAA273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9369-D333-4412-967E-C75C56000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F059-3135-4C9B-84EE-D884CAEEC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812F-FC0B-433D-B65E-7C8B39DA9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0C4E-57CB-4A69-AC96-9080DA8B45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FB70-1386-4F29-A70C-DAE363060A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E110-1FE2-4181-84DB-756607C1B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E9E0-1746-4C87-99C8-40841AD4D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3967-6BBC-4440-9B0E-C280548BA4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5A32-D010-468A-B375-622382E48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22A0-6069-4DBE-A005-CF34D6083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37FA-5CEB-4BF4-B7AC-274F101B2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E97A-6576-42A5-B9BC-D3FD58B593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00B4-BD63-4520-B620-B68F8A12B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0695-1577-4EE1-A75A-C3F955A0F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732F-F987-48AF-80A7-CE04D16E1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33D7-81A8-4E30-A3D9-D81001D0D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8890-4469-425F-AE73-9447DE97B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0C1-98F7-4D46-B259-255228200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973D-F960-45C6-A82C-963AAAEFA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CAC1-B257-4945-A03E-E0104797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62C2-C6A5-4B30-AC5C-43A6988F3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72DF-3DA6-4977-BD64-231DA614D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7770-F6B2-4419-BF35-E2ADB27D2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01C-E206-47D4-867B-248ADC9AE868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00addc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9CA-3EFC-4FC0-A471-8633F06D190B}" type="slidenum">
              <a: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Gallipoli_Campaign" TargetMode="External"/><Relationship Id="rId4" Type="http://schemas.openxmlformats.org/officeDocument/2006/relationships/hyperlink" Target="http://militaryhistory.about.com/od/worldwari/p/gallipoli.htm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D33-44B3-4E4D-AD32-7A4BBFB246A6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"/>
                <a:ea typeface="Trebuchet MS"/>
              </a:rPr>
              <a:t>World War One-Battle of Gallipoli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Ken F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72388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Battle of Gallipoli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ocation: Gallipoli peninsula, Turke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ate: 25 April 1915 – 6 January 191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5360" y="88884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733560" cy="26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57800" y="472428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Who fought in this battle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19623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5680" y="3765600"/>
            <a:ext cx="965160" cy="48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79360" y="4317840"/>
            <a:ext cx="111780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122076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6760" y="5956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209680" y="2840040"/>
            <a:ext cx="1608120" cy="11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305080" y="4254480"/>
            <a:ext cx="1006560" cy="67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6200" y="34290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VERSU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21160" y="1633680"/>
            <a:ext cx="1816200" cy="12110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435640" y="3211560"/>
            <a:ext cx="1892160" cy="11318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384880" y="4770360"/>
            <a:ext cx="2006640" cy="133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3" name=""/>
          <p:cNvSpPr/>
          <p:nvPr/>
        </p:nvSpPr>
        <p:spPr>
          <a:xfrm>
            <a:off x="736560" y="1181160"/>
            <a:ext cx="81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559840" y="1079640"/>
            <a:ext cx="163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entral Pow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5240" y="1649520"/>
            <a:ext cx="3708360" cy="354492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600" y="357120"/>
            <a:ext cx="72388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y did they figh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29200" y="1581120"/>
            <a:ext cx="2984400" cy="367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1905120" y="5740560"/>
            <a:ext cx="354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apture Istanbul and secure sea route to Russia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1C46-9C5A-4C16-A960-4280A5FBC9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-47520"/>
            <a:ext cx="723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Significance 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11760" y="1062000"/>
            <a:ext cx="4508280" cy="337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920" y="154944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NZAC Da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9840" y="5587920"/>
            <a:ext cx="3179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id grounds for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urkish War of Independ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8520" y="2324160"/>
            <a:ext cx="3935520" cy="25527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395520" y="4381560"/>
            <a:ext cx="4415040" cy="241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480" y="1663560"/>
            <a:ext cx="3889080" cy="45212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87720" y="1219320"/>
            <a:ext cx="3936960" cy="50799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o proposed this idea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740560"/>
            <a:ext cx="798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French Minister of Justice Aristide Briand in November 1914, later, Churhil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EA69-9AF1-4205-AC09-1D8D1CD63D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“</a:t>
            </a: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The year the blackbirds Died” by christian war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4" name=""/>
          <p:cNvSpPr/>
          <p:nvPr/>
        </p:nvSpPr>
        <p:spPr>
          <a:xfrm>
            <a:off x="1987920" y="2133720"/>
            <a:ext cx="3877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84280" tIns="0" bIns="0" anchor="t">
            <a:spAutoFit/>
          </a:bodyPr>
          <a:p>
            <a:pPr marL="127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y found the birds impal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on white picket fence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in fist-sized nooses, circl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like trapeze artists tr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o find the safety ne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lumped over tables, wing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hoarding nests of pill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And all the while, ca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were waiting outsid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ir scratching trem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rying to eke out conf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from empty mouth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4A78-86A2-4B51-A28F-869844EFDF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17720" y="255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ork cite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Gallipoli Campaign." Wikipedia . December 2009. Wikipedia, Web. 1 Dec 2009.                                                           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http://en.wikipedia.org/wiki/Gallipoli_Campaign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Hickman, Kennedy . "World War I: Battle of Gallipoli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About.co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9. The New York Time Company, Web. 1 Dec 2009.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4"/>
              </a:rPr>
              <a:t>http://militaryhistory.about.com/od/worldwari/p/gallipoli.ht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The Battle of Gallipoli - World War One 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DefenceTalk Foru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7. Defence Talk, Web. 1 Dec 2009. &lt;</a:t>
            </a:r>
            <a:r>
              <a:rPr b="0" lang="en-US" sz="1600" spc="-1" strike="noStrike" u="sng">
                <a:solidFill>
                  <a:srgbClr val="242424"/>
                </a:solidFill>
                <a:uFillTx/>
                <a:latin typeface="Verdana"/>
                <a:ea typeface="Verdana"/>
              </a:rPr>
              <a:t>http://images.google.com/imgres?imgurl=http://www.defencetalk.com/pictures/data/4826/WW1_10A.jpg&amp;imgrefurl=http://www.defencetalk.com/pictures/showphoto.php/photo/23662&amp;usg=__oLy2xkLWSNy0R_n-f3oyg7IDYQk=&amp;h=374&amp;w=500&amp;sz=79&amp;hl=en&amp;start=6&amp;um=1&amp;tbnid=QmXKjQeAPo-w5M:&amp;tbnh=97&amp;tbnw=130&amp;prev=/images%3Fq%3Dbattle%2Bof%2Bgallipoli%26hl%3Den%26client%3Dsafari%26rls%3Den%26sa%3DN%26um%3D1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4CAC-2610-427F-BF10-CF685059521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dc:language>en-US</dc:language>
  <cp:lastModifiedBy/>
  <cp:revision>0</cp:revision>
  <dc:subject/>
  <dc:title>Battle of Gallipoli</dc:title>
</cp:coreProperties>
</file>