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012F-56A4-47F2-9263-69EC2A1D9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B2E8-868C-4768-9554-AD82E38B6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D337-C711-47F3-8ECA-2B9100418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5193-9DBA-4872-86DF-ADCCEC02A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8500D-7889-47CC-9EB7-2E77F1ABB4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5866-CA06-405F-9FA3-FF1539F3FA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7C25-EC13-43BC-B425-F836692CA4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18A4-4C6D-4C87-B251-E66D520D3D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E1E7-63C6-46A1-8767-DD3C656CF1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C4B4-1025-4219-968B-128513F507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A033-5C11-49B2-93DE-5166457872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881C-1F8F-4764-B6CE-4A3CCF05E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6224-1605-474B-A534-3C22E7C12B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8A66-3A3C-41B3-A187-C76FCFCE88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66E9-2109-4883-89D2-A197D9501B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BC01-7A90-461D-A02C-D672074089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F515-422F-435B-A2DD-7FAE5074BA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F1FA-D049-4EA9-AB1E-69F94F026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1A7C-DF16-48FC-A19E-B94690C23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FC47-E980-4411-B704-C00EA8CCA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961D-33C6-4EFA-914B-F816465BF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856E-DF1B-47CE-91B6-C43FCDCA4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746B-77BC-4532-9D05-1C0B46B22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E311-A482-448F-844C-E2D8FB349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5280" y="0"/>
            <a:ext cx="51051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8fc"/>
                </a:solidFill>
                <a:latin typeface="Trebuchet MS Bold"/>
              </a:rPr>
              <a:t>Click to edit the title text format</a:t>
            </a:r>
            <a:endParaRPr b="0" lang="en-US" sz="42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54120" y="3538080"/>
            <a:ext cx="5113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1782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564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53460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713160" algn="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D1E7-BD40-4663-B64D-09ADAB8F7E79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Click to edit the title text format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482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2072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9669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41280" indent="-228600">
              <a:spcBef>
                <a:spcPts val="601"/>
              </a:spcBef>
              <a:buClr>
                <a:srgbClr val="00addc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4128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4128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67980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8936-6533-4203-95AD-8EAAD50769FD}" type="slidenum">
              <a:rPr b="0" lang="en-US" sz="1100" spc="-1" strike="noStrike">
                <a:solidFill>
                  <a:srgbClr val="d6ec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Gallipoli_Campaign" TargetMode="External"/><Relationship Id="rId4" Type="http://schemas.openxmlformats.org/officeDocument/2006/relationships/hyperlink" Target="http://militaryhistory.about.com/od/worldwari/p/gallipoli.htm" TargetMode="External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6880" y="0"/>
            <a:ext cx="64771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B67D-21EE-407A-A8ED-23068AA8DB5C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65280" y="0"/>
            <a:ext cx="51051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8fc"/>
                </a:solidFill>
                <a:latin typeface="Trebuchet MS"/>
                <a:ea typeface="Trebuchet MS"/>
              </a:rPr>
              <a:t>World War One-Battle of Gallipoli</a:t>
            </a:r>
            <a:endParaRPr b="0" lang="en-US" sz="42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54120" y="3538080"/>
            <a:ext cx="5113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Ken Fa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eriod 3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72388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Battle of Gallipoli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ocation: Gallipoli peninsula, Turke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ate: 25 April 1915 – 6 January 1916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35360" y="88884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04920" y="3886200"/>
            <a:ext cx="3733560" cy="262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257800" y="4724280"/>
            <a:ext cx="37339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Who fought in this battle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52280" y="1752480"/>
            <a:ext cx="196236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04920" y="30481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55680" y="3765600"/>
            <a:ext cx="965160" cy="482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79360" y="4317840"/>
            <a:ext cx="1117800" cy="559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28600" y="5143680"/>
            <a:ext cx="122076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266760" y="5956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2209680" y="2840040"/>
            <a:ext cx="1608120" cy="1176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2305080" y="4254480"/>
            <a:ext cx="1006560" cy="67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86200" y="3429000"/>
            <a:ext cx="1143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VERSU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5321160" y="1633680"/>
            <a:ext cx="1816200" cy="12110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5435640" y="3211560"/>
            <a:ext cx="1892160" cy="11318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5384880" y="4770360"/>
            <a:ext cx="2006640" cy="1336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3" name=""/>
          <p:cNvSpPr/>
          <p:nvPr/>
        </p:nvSpPr>
        <p:spPr>
          <a:xfrm>
            <a:off x="736560" y="1181160"/>
            <a:ext cx="812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lli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5559840" y="1079640"/>
            <a:ext cx="163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Central Power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5240" y="1649520"/>
            <a:ext cx="3708360" cy="354492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600" y="357120"/>
            <a:ext cx="723888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hy did they fight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029200" y="1581120"/>
            <a:ext cx="2984400" cy="3676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9" name=""/>
          <p:cNvSpPr/>
          <p:nvPr/>
        </p:nvSpPr>
        <p:spPr>
          <a:xfrm>
            <a:off x="1905120" y="5740560"/>
            <a:ext cx="354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Capture Istanbul and secure sea route to Russia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58B1-79D4-4271-A4A1-0AE37AAF54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9880" y="-47520"/>
            <a:ext cx="723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"/>
                <a:ea typeface="Trebuchet MS"/>
              </a:rPr>
              <a:t>Significance 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11760" y="1062000"/>
            <a:ext cx="4508280" cy="3373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13920" y="1549440"/>
            <a:ext cx="121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ANZAC Da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9840" y="5587920"/>
            <a:ext cx="3179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Laid grounds for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Turkish War of Independe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8520" y="2324160"/>
            <a:ext cx="3935520" cy="25527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395520" y="4381560"/>
            <a:ext cx="4415040" cy="24130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480" y="1663560"/>
            <a:ext cx="3889080" cy="452124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987720" y="1219320"/>
            <a:ext cx="3936960" cy="50799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19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ho proposed this idea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1" name=""/>
          <p:cNvSpPr/>
          <p:nvPr/>
        </p:nvSpPr>
        <p:spPr>
          <a:xfrm>
            <a:off x="77040" y="5740560"/>
            <a:ext cx="798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Trebuchet MS"/>
              </a:rPr>
              <a:t>French Minister of Justice Aristide Briand in November 1914, later, Churhil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25FA-6F42-461D-9911-14C5771003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“</a:t>
            </a: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The year the blackbirds Died” by christian ward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4" name=""/>
          <p:cNvSpPr/>
          <p:nvPr/>
        </p:nvSpPr>
        <p:spPr>
          <a:xfrm>
            <a:off x="1987920" y="2133720"/>
            <a:ext cx="38775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84280" tIns="0" bIns="0" anchor="t">
            <a:spAutoFit/>
          </a:bodyPr>
          <a:p>
            <a:pPr marL="127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hey found the birds impal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on white picket fence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in fist-sized nooses, circl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like trapeze artists tr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o find the safety ne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slumped over tables, wing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hoarding nests of pill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And all the while, ca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were waiting outsid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heir scratching tremo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trying to eke out confessio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 Italic"/>
                <a:ea typeface="Verdana Italic"/>
              </a:rPr>
              <a:t>from empty mouths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864A-E3F3-40FF-B2D0-0DE3DCAF1C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17720" y="255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f8fc"/>
                </a:solidFill>
                <a:latin typeface="Trebuchet MS Bold"/>
              </a:rPr>
              <a:t>Work cited</a:t>
            </a:r>
            <a:endParaRPr b="0" lang="en-US" sz="3800" spc="-1" strike="noStrike">
              <a:solidFill>
                <a:srgbClr val="eaf8fc"/>
              </a:solidFill>
              <a:latin typeface="Trebuchet MS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"Gallipoli Campaign." Wikipedia . December 2009. Wikipedia, Web. 1 Dec 2009.                                                            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3"/>
              </a:rPr>
              <a:t>http://en.wikipedia.org/wiki/Gallipoli_Campaign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Hickman, Kennedy . "World War I: Battle of Gallipoli." </a:t>
            </a:r>
            <a:r>
              <a:rPr b="0" lang="en-US" sz="1600" spc="-1" strike="noStrike">
                <a:solidFill>
                  <a:srgbClr val="242424"/>
                </a:solidFill>
                <a:latin typeface="Verdana Italic"/>
                <a:ea typeface="Verdana Italic"/>
              </a:rPr>
              <a:t>About.co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. 2009. The New York Time Company, Web. 1 Dec 2009. 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4"/>
              </a:rPr>
              <a:t>http://militaryhistory.about.com/od/worldwari/p/gallipoli.ht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6ec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"The Battle of Gallipoli - World War One ." </a:t>
            </a:r>
            <a:r>
              <a:rPr b="0" lang="en-US" sz="1600" spc="-1" strike="noStrike">
                <a:solidFill>
                  <a:srgbClr val="242424"/>
                </a:solidFill>
                <a:latin typeface="Verdana Italic"/>
                <a:ea typeface="Verdana Italic"/>
              </a:rPr>
              <a:t>DefenceTalk Forum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. 2007. Defence Talk, Web. 1 Dec 2009. &lt;</a:t>
            </a:r>
            <a:r>
              <a:rPr b="0" lang="en-US" sz="1600" spc="-1" strike="noStrike" u="sng">
                <a:solidFill>
                  <a:srgbClr val="242424"/>
                </a:solidFill>
                <a:uFillTx/>
                <a:latin typeface="Verdana"/>
                <a:ea typeface="Verdana"/>
              </a:rPr>
              <a:t>http://images.google.com/imgres?imgurl=http://www.defencetalk.com/pictures/data/4826/WW1_10A.jpg&amp;imgrefurl=http://www.defencetalk.com/pictures/showphoto.php/photo/23662&amp;usg=__oLy2xkLWSNy0R_n-f3oyg7IDYQk=&amp;h=374&amp;w=500&amp;sz=79&amp;hl=en&amp;start=6&amp;um=1&amp;tbnid=QmXKjQeAPo-w5M:&amp;tbnh=97&amp;tbnw=130&amp;prev=/images%3Fq%3Dbattle%2Bof%2Bgallipoli%26hl%3Den%26client%3Dsafari%26rls%3Den%26sa%3DN%26um%3D1</a:t>
            </a:r>
            <a:r>
              <a:rPr b="0" lang="en-US" sz="1600" spc="-1" strike="noStrike">
                <a:solidFill>
                  <a:srgbClr val="242424"/>
                </a:solidFill>
                <a:latin typeface="Verdana"/>
                <a:ea typeface="Verdana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214F-CF21-431F-A1C9-B239F6B1CCC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CPSS</dc:creator>
  <dc:description/>
  <dc:language>en-US</dc:language>
  <cp:lastModifiedBy/>
  <cp:revision>0</cp:revision>
  <dc:subject/>
  <dc:title>Battle of Gallipoli</dc:title>
</cp:coreProperties>
</file>