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1BE7-207B-47C5-A363-950C90BD6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6340-8DDC-4F69-9349-12E72BCD2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712C-0602-495E-A144-5B9E3ADCC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362B-0D64-42C3-B54F-74D9F1D86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A12D-093C-4501-982C-AE976FE3C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FB84-C243-4A50-9446-143C7A915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3DED-BF9D-4B03-9A19-03A3FF434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190E-8DA0-4C58-9848-CE822539E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C5F5-9142-4B03-9FF4-7A88E5D94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5C47-9C2D-49CD-BAB9-CA7548334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7D74-8F1A-4D54-B1D1-993FC9AF3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8507-680D-4010-9295-CE098FE54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730AE-2A37-43AF-86DF-D74891D4D7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3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3.jpe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14400" y="152280"/>
            <a:ext cx="73152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07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he Battle of the Somme</a:t>
            </a:r>
            <a:endParaRPr b="0" lang="en-US" sz="1800" spc="1" strike="noStrike">
              <a:ln w="507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324480" y="6019920"/>
            <a:ext cx="2390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Jimmy Zhang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990720" y="1905120"/>
            <a:ext cx="449568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80880" y="228600"/>
            <a:ext cx="44960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ackground</a:t>
            </a:r>
            <a:endParaRPr b="0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"/>
          <p:cNvSpPr/>
          <p:nvPr/>
        </p:nvSpPr>
        <p:spPr>
          <a:xfrm>
            <a:off x="5791320" y="228600"/>
            <a:ext cx="3200400" cy="2671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evised in 19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tended to drain German supplies and mor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tr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400800" y="3809880"/>
            <a:ext cx="2238480" cy="2743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304920" y="1600200"/>
            <a:ext cx="5257800" cy="4572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5800" y="228600"/>
            <a:ext cx="4800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ackground</a:t>
            </a:r>
            <a:endParaRPr b="0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400800" y="457200"/>
            <a:ext cx="1581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ntd.</a:t>
            </a:r>
            <a:endParaRPr b="0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52388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676520"/>
            <a:ext cx="8458200" cy="1169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Jointly planned by Joffre and Sir Douglas H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fluenced by the German Verdun Offe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685800" y="3200400"/>
            <a:ext cx="8001000" cy="33256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228600"/>
            <a:ext cx="4800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ackground</a:t>
            </a:r>
            <a:endParaRPr b="0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400800" y="457200"/>
            <a:ext cx="1581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ntd.</a:t>
            </a:r>
            <a:endParaRPr b="0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1523880"/>
            <a:ext cx="3504960" cy="2653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tricate series of bombardments, advancements, and a complex communication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5181480" y="1447920"/>
            <a:ext cx="3816360" cy="52578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152280" y="4419720"/>
            <a:ext cx="4876920" cy="22478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143000" y="228600"/>
            <a:ext cx="67057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07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he Battle</a:t>
            </a:r>
            <a:endParaRPr b="0" lang="en-US" sz="1800" spc="1" strike="noStrike">
              <a:ln w="507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1600200"/>
            <a:ext cx="8077320" cy="157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ight day bombard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our months of figh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sult:  Minor Entente Vi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352680"/>
            <a:ext cx="4572000" cy="325908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5029200" y="3352680"/>
            <a:ext cx="3886200" cy="324828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228600"/>
            <a:ext cx="8067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ignificance/Legacy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5029200"/>
            <a:ext cx="8382240" cy="157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5 million casual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st use of the t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ttle accomp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380880" y="1447920"/>
            <a:ext cx="4114800" cy="3085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800600" y="1447920"/>
            <a:ext cx="3886200" cy="31064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80880" y="304920"/>
            <a:ext cx="3733920" cy="6013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cerpt from Extreme’s 1992 song “Warhead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uld you like to b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’m a warhead, you’re a war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warhead just like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e’s a warhead, she’s a war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tch ‘em scream ‘n y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uld you like to be, a warhead to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en I blow them straight to 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mboy, it's us and them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ust like your Daddy in Vietnam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nkey see, Monkey do,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boy's grown up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ust like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world ain't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ig enough for two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I've got my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ghts on yo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uld you like to b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’m a warhead, you’re a war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warhead just like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e’s a warhead, she’s a war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tch ‘em scream ‘n y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uld you like to be, a warhead to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en I blow them straight to 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800600" y="228600"/>
            <a:ext cx="37339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ro-war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638680" y="1600200"/>
            <a:ext cx="22003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oem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4876920" y="2971800"/>
            <a:ext cx="3590640" cy="26020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5354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2209680" y="152280"/>
            <a:ext cx="4948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07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Works Cited</a:t>
            </a:r>
            <a:endParaRPr b="0" lang="en-US" sz="1800" spc="1" strike="noStrike">
              <a:ln w="507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" name=""/>
          <p:cNvSpPr/>
          <p:nvPr/>
        </p:nvSpPr>
        <p:spPr>
          <a:xfrm>
            <a:off x="762120" y="1981080"/>
            <a:ext cx="807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676520" y="990720"/>
            <a:ext cx="5790960" cy="5646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21:04:02Z</dcterms:created>
  <dc:creator>Hong Cui</dc:creator>
  <dc:description/>
  <dc:language>en-US</dc:language>
  <cp:lastModifiedBy>Hong Cui</cp:lastModifiedBy>
  <dcterms:modified xsi:type="dcterms:W3CDTF">2009-12-03T03:51:17Z</dcterms:modified>
  <cp:revision>4</cp:revision>
  <dc:subject/>
  <dc:title>Slide 1</dc:title>
</cp:coreProperties>
</file>