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6C0-5723-4716-9BA3-40F2107C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CF64-6003-4137-9C53-A3E20642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578-5B80-4D5D-B448-4C1AFCEF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25B-C2C8-4B69-A7A8-F9DFCDA6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18A-CB5E-4F95-93AD-4A50157D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6FF-6C5C-49CC-9F89-0A13B416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4672-95A5-49BC-A264-3552B11F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5B6-727C-4FEA-93F5-534DF0A7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28F-72F8-4285-B216-9F3F51F0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72A-A30E-40F1-AE71-DB69AB31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7FF-759A-4F3C-B72E-17FB2311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A4D-DDE0-454A-84C4-B02B9BBC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2DB1-B6ED-49FC-B5A6-71DA9E8F7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152280"/>
            <a:ext cx="7315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Battle of the Somme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324480" y="6019920"/>
            <a:ext cx="2390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immy Zhang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44956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880" y="228600"/>
            <a:ext cx="4496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ckground</a:t>
            </a:r>
            <a:endParaRPr b="0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228600"/>
            <a:ext cx="3200400" cy="2671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vised in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nded to drain German supplies and mo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400800" y="3809880"/>
            <a:ext cx="223848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04920" y="1600200"/>
            <a:ext cx="525780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"/>
            <a:ext cx="4800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ckground</a:t>
            </a:r>
            <a:endParaRPr b="0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400800" y="457200"/>
            <a:ext cx="158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td.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523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76520"/>
            <a:ext cx="8458200" cy="116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ointly planned by Joffre and Sir Douglas H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luenced by the German Verdun Off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5800" y="3200400"/>
            <a:ext cx="8001000" cy="3325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228600"/>
            <a:ext cx="4800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ckground</a:t>
            </a:r>
            <a:endParaRPr b="0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00800" y="457200"/>
            <a:ext cx="158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td.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523880"/>
            <a:ext cx="3504960" cy="2653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ricate series of bombardments, advancements, and a complex commun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181480" y="1447920"/>
            <a:ext cx="3816360" cy="5257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52280" y="4419720"/>
            <a:ext cx="4876920" cy="2247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143000" y="228600"/>
            <a:ext cx="6705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Battle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600200"/>
            <a:ext cx="8077320" cy="157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ight day bombar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 months of f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ult:  Minor Entente Vi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352680"/>
            <a:ext cx="4572000" cy="3259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029200" y="3352680"/>
            <a:ext cx="3886200" cy="32482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28600"/>
            <a:ext cx="806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ignificance/Legacy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5029200"/>
            <a:ext cx="8382240" cy="157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5 million casu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use of the t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0880" y="1447920"/>
            <a:ext cx="4114800" cy="308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800600" y="1447920"/>
            <a:ext cx="3886200" cy="3106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04920"/>
            <a:ext cx="3733920" cy="601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rpt from Extreme’s 1992 song “Warhea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’m a warhead, you’re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warhead just like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’s a warhead, she’s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ch ‘em scream ‘n y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, a warhead t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I blow them straight to 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mboy, it's us and the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st like your Daddy in Vietna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key see, Monkey do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boy's grown u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st lik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world ain'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g enough for tw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I've got m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hts on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’m a warhead, you’re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warhead just like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’s a warhead, she’s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ch ‘em scream ‘n y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, a warhead t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I blow them straight to 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800600" y="228600"/>
            <a:ext cx="3733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-war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638680" y="1600200"/>
            <a:ext cx="2200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em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876920" y="2971800"/>
            <a:ext cx="3590640" cy="2602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5354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209680" y="152280"/>
            <a:ext cx="494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orks Cited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981080"/>
            <a:ext cx="807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5790960" cy="564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1:04:02Z</dcterms:created>
  <dc:creator>Hong Cui</dc:creator>
  <dc:description/>
  <dc:language>en-US</dc:language>
  <cp:lastModifiedBy>Hong Cui</cp:lastModifiedBy>
  <dcterms:modified xsi:type="dcterms:W3CDTF">2009-12-03T03:51:17Z</dcterms:modified>
  <cp:revision>4</cp:revision>
  <dc:subject/>
  <dc:title>Slide 1</dc:title>
</cp:coreProperties>
</file>