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3323-B417-480F-8785-907FD0ADA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B302-91A8-4922-A6C5-3480E92E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80EB-BF27-46A7-810E-8119F41E8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C2F6-6B10-4ED2-982C-5CF1E6A07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597C-AF98-41F2-A7AC-D3F1FF72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DC59-52E1-455D-B3AE-F7BA8A62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811D-E633-4C35-9A2F-B9C876EA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B04B-9D2C-41ED-8AF6-F7813B0E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A91D-9268-43DE-A09B-40F554DB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5B62-9B0D-4D64-8DE3-6E3F5507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B7D4-1C17-42F2-90CD-556D3EC9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1D7D-8231-419D-B2F4-14AF3EA8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D0D6-B8F0-4E0C-9756-73BEB4D60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.jpe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14400" y="152280"/>
            <a:ext cx="7315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Battle of the Somme</a:t>
            </a:r>
            <a:endParaRPr b="0" lang="en-US" sz="1800" spc="1" strike="noStrike">
              <a:ln w="507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324480" y="6019920"/>
            <a:ext cx="2390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Jimmy Zhang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990720" y="1905120"/>
            <a:ext cx="449568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80880" y="228600"/>
            <a:ext cx="4496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ackground</a:t>
            </a:r>
            <a:endParaRPr b="0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228600"/>
            <a:ext cx="3200400" cy="2671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vised in 19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nded to drain German supplies and mor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400800" y="3809880"/>
            <a:ext cx="2238480" cy="2743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04920" y="1600200"/>
            <a:ext cx="5257800" cy="45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228600"/>
            <a:ext cx="4800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ackground</a:t>
            </a:r>
            <a:endParaRPr b="0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400800" y="457200"/>
            <a:ext cx="1581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ntd.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5238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676520"/>
            <a:ext cx="8458200" cy="1169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Jointly planned by Joffre and Sir Douglas H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luenced by the German Verdun Off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85800" y="3200400"/>
            <a:ext cx="8001000" cy="3325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228600"/>
            <a:ext cx="4800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ackground</a:t>
            </a:r>
            <a:endParaRPr b="0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400800" y="457200"/>
            <a:ext cx="1581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ntd.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1523880"/>
            <a:ext cx="3504960" cy="2653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ricate series of bombardments, advancements, and a complex communicatio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181480" y="1447920"/>
            <a:ext cx="3816360" cy="52578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152280" y="4419720"/>
            <a:ext cx="4876920" cy="22478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143000" y="228600"/>
            <a:ext cx="6705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Battle</a:t>
            </a:r>
            <a:endParaRPr b="0" lang="en-US" sz="1800" spc="1" strike="noStrike">
              <a:ln w="507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1600200"/>
            <a:ext cx="8077320" cy="157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ight day bombard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ur months of fig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sult:  Minor Entente Vi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352680"/>
            <a:ext cx="4572000" cy="32590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5029200" y="3352680"/>
            <a:ext cx="3886200" cy="32482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228600"/>
            <a:ext cx="8067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ignificance/Legacy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5029200"/>
            <a:ext cx="8382240" cy="157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5 million casual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use of the t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ttle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80880" y="1447920"/>
            <a:ext cx="4114800" cy="3085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800600" y="1447920"/>
            <a:ext cx="3886200" cy="3106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304920"/>
            <a:ext cx="3733920" cy="601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rpt from Extreme’s 1992 song “Warhead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uld you like to 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’m a warhead, you’re a wa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warhead just like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’s a warhead, she’s a wa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tch ‘em scream ‘n y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uld you like to be, a warhead to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n I blow them straight to 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mboy, it's us and the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ust like your Daddy in Vietna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key see, Monkey do,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boy's grown up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ust like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world ain'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ig enough for two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I've got my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ghts on y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uld you like to 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’m a warhead, you’re a wa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warhead just like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’s a warhead, she’s a wa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tch ‘em scream ‘n y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uld you like to be, a warhead to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n I blow them straight to 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800600" y="228600"/>
            <a:ext cx="37339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ro-war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638680" y="1600200"/>
            <a:ext cx="22003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oem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876920" y="2971800"/>
            <a:ext cx="3590640" cy="2602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5354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209680" y="152280"/>
            <a:ext cx="4948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orks Cited</a:t>
            </a:r>
            <a:endParaRPr b="0" lang="en-US" sz="1800" spc="1" strike="noStrike">
              <a:ln w="507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1981080"/>
            <a:ext cx="807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676520" y="990720"/>
            <a:ext cx="5790960" cy="5646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21:04:02Z</dcterms:created>
  <dc:creator>Hong Cui</dc:creator>
  <dc:description/>
  <dc:language>en-US</dc:language>
  <cp:lastModifiedBy>Hong Cui</cp:lastModifiedBy>
  <dcterms:modified xsi:type="dcterms:W3CDTF">2009-12-03T03:51:17Z</dcterms:modified>
  <cp:revision>4</cp:revision>
  <dc:subject/>
  <dc:title>Slide 1</dc:title>
</cp:coreProperties>
</file>