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B73-5D8E-41C6-90C5-AE202A9A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E1E-727D-44E4-AE6A-CA393B5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E58-1AF9-4F03-BF4E-F39F39DF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08F-1C72-4156-9850-9E3738BF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9AB6-F257-4107-B634-6EE0B6DB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F6A0-04BB-4A3B-8F2B-BF5933A7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94B0-D0F2-4A80-BFC3-6B722736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736E-5FCB-486A-9727-F899815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F9C0-5E57-4007-B6C6-9480191E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33A9-3EBB-4D8E-8C8F-B10B4870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F37C-85A1-43E7-94BC-71D10BB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E85-EC99-4814-82FC-0C24DD65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6CD5-29CE-411D-8B77-49A3A02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ED84-FD59-40A1-BB6F-BD45842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AB97-ABC1-4253-BE02-6FFFE149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3902-DD23-495A-A83F-CD77A2BE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7E5F-807B-40FF-B7A1-E9C6A1E2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88DB-BB87-4141-B572-FB5DE7E0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85C2-8C54-40BF-ADCE-BAE205C5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DDAB0-017D-4103-AC38-2A03A335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A306-5F6C-468F-BB94-BD5443D3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D184-30AD-4FE9-BB76-0EF39D0F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32B-03DE-4EA0-9F23-3FB141F3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C02D-3E11-414B-9B6F-FDBC6D2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6C93-2E90-4F90-BB50-B6272FF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0651-3847-4345-B734-2C711DC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992A-86CE-46AD-8281-5065E491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5F73-B48A-42EB-B5FB-CFE9D19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429B-4517-4206-8888-6524CFAA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930B-03D9-46C6-9E94-6972BDCA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C857-9263-4A61-882A-1282B990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1BCD-98CE-4B6F-82DD-6D63B18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2C8D-75A1-4CA4-8B51-AF21796F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A51-538F-47F2-980C-E1D3410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6635-C957-4971-8FA2-740F237C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5D68-DDC9-4597-A2B7-45F7EBD8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F28D-0899-4BF8-9558-E3D53DE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F364-A7BE-4E8E-8EE3-5988835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52BB-A680-4569-8FDF-57B15D3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E290-3828-48EB-AE28-776E784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1916-349D-44AB-BC15-1281EAA0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C033-E660-4858-B79B-62F710A4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7673-8237-4840-B4C4-481773B8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BB50-FE31-4205-8263-551F3609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489-3235-402B-882A-7CA9751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BD66-02C2-4693-9172-A2C88C7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DE3B-D511-4311-8C4E-BAA852C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531A6-880E-43DC-B888-E64C566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647C-CAC9-43B5-91D2-7DF0887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C99B-2019-4489-8894-5D55FFC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0226-72B7-49F0-B428-1653F91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E858-C6C6-4DA4-8ED4-1D9D02E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00C5-4A16-4C85-911C-AB53A04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1B8CA-B7C9-4481-9510-08E37855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0801-F911-420F-9182-2BBC2188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132-84DA-48FA-A9A7-EE4E4D2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BD03-F700-4137-9CAE-E45348F9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8097-E8BE-4130-AEB3-9BEDE69D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D5A71-A911-4B70-AA87-0284096C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0DF95-01FC-44ED-A9E3-1946223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903F-5917-4B84-A680-530696E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10BF-994B-40C2-8CD6-9CB4EC7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6777F-8718-41DB-BC5E-9990DF9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2F9C-C12D-40EA-9495-717682E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BB95-605E-4941-9C5C-5E7DAEC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5D11-3190-4EE6-8A87-561E930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FBF-841F-4E95-BDF4-00226AC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2F3BF-2C02-4F76-AF60-BD832882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C220-DA93-4EA6-8D15-6238BC18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105A-75B6-498C-8E87-E9C076CE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065C-C26C-489A-8667-D267CEAE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6BB5-4F04-4F25-A442-B889B1A6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98ED-C071-4437-AC6F-CBF6E91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D40A2-617A-417A-9D9D-5608248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407F-1A11-4F7F-841E-96446A31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7884-4CD6-40C6-AF1A-5C821848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B743-45EC-45F4-8C02-FC4CBE0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C32-79B5-4528-8A89-41C3A82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0ABA-6985-4528-A32B-0B39D8B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B8EF-1E22-4D57-9340-AD2A7AE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A6C71-BBF9-46A4-96B7-7A5F5D04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43408-7A27-4C67-B992-12EF5373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A6841-441C-486D-8B75-25FBCC84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0F0-F65D-4FC4-9128-0D19F214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F0F-DDF1-44BE-B3DE-0DC71E81E3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4ED-8473-4532-8EE2-C284BDF3637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391-9B27-4481-BD58-2C936521CC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8B22-805D-4F8F-912F-362EE1A21F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196-CE41-4B23-AE42-4EF285CC1F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5FC-27AE-411C-988B-41D873EA06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F93F-80F7-4A5E-989C-A345E70A8E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hwcdn.net/m5v9i3d8/cds/images/revolver_m1917_colt_700.jpg&amp;imgrefurl=http://www.olive-drab.com/od_other_firearms_pistol_m1917.php3&amp;usg=__4BrG7lmv6paVoPL6RA6W-unN5qU=&amp;h=280&amp;w=504&amp;sz=28&amp;hl=en&amp;start=16&amp;tbnid=iqI4t5oyuBuRPM:&amp;tbnh=72&amp;tbnw=130&amp;prev=/images%3Fq%3Dworld%2Bwar%2B1%2Bpistols%26gbv%3D2%26hl%3Den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ar-arms.com/images/blank1.jpg&amp;imgrefurl=http://www.iar-arms.com/worldwarblanks.htm&amp;usg=__Vptu8DcsZZQv8ZKJ7KSAVoTab0A=&amp;h=265&amp;w=279&amp;sz=8&amp;hl=en&amp;start=1&amp;itbs=1&amp;tbnid=7N4DAq6HRdAFiM:&amp;tbnh=108&amp;tbnw=114&amp;prev=/images%3Fq%3Dworld%2Bwar%2B1%2Bpistols%26gbv%3D2%26hl%3Den%26safe%3Doff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b/Lee-Enfield_Rifle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rick_oleson.tripod.com/dad/03a3-after.jpg&amp;imgrefurl=http://rick_oleson.tripod.com/dad/gunwork.html&amp;usg=__rr2--hEGPIK_GYQRv9Adi8ez08k=&amp;h=436&amp;w=967&amp;sz=102&amp;hl=en&amp;start=10&amp;um=1&amp;tbnid=ojbjbdRI-LJsoM:&amp;tbnh=67&amp;tbnw=148&amp;prev=/images%3Fq%3Dworld%2Bwar%2B1%2Brifle%26hl%3Den%26rlz%3D1R2ADRA_enUS336%26um%3D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2314"/>
                </a:solidFill>
                <a:latin typeface="Gill Sans MT"/>
              </a:rPr>
              <a:t>Small Guns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alinda Kee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11" descr="pistol.jpg"/>
          <p:cNvPicPr/>
          <p:nvPr/>
        </p:nvPicPr>
        <p:blipFill>
          <a:blip r:embed="rId2"/>
          <a:stretch/>
        </p:blipFill>
        <p:spPr>
          <a:xfrm>
            <a:off x="3048120" y="1295280"/>
            <a:ext cx="3547800" cy="47545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3048120" y="3886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stol used to start World War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" descr="Webley Mark IV revolver"/>
          <p:cNvPicPr/>
          <p:nvPr/>
        </p:nvPicPr>
        <p:blipFill>
          <a:blip r:embed="rId3"/>
          <a:stretch/>
        </p:blipFill>
        <p:spPr>
          <a:xfrm>
            <a:off x="1676520" y="4572000"/>
            <a:ext cx="2438280" cy="153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419560" cy="18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362320"/>
            <a:ext cx="1524240" cy="84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447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ree Types of 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http://t3.gstatic.com/images?q=tbn:7N4DAq6HRdAFiM:http://www.iar-arms.com/images/blank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3880"/>
            <a:ext cx="2057400" cy="19479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586728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rman blowb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2514600" cy="1922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625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447920" y="1515960"/>
            <a:ext cx="2666880" cy="1825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28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38600" cy="3962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8862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File:Lee-Enfield Rif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600200"/>
            <a:ext cx="4953240" cy="1157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62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-En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600200" y="3751200"/>
            <a:ext cx="2971800" cy="2238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4800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" descr="whole 1903"/>
          <p:cNvPicPr/>
          <p:nvPr/>
        </p:nvPicPr>
        <p:blipFill>
          <a:blip r:embed="rId5"/>
          <a:stretch/>
        </p:blipFill>
        <p:spPr>
          <a:xfrm>
            <a:off x="5105520" y="3581280"/>
            <a:ext cx="3047760" cy="1957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4100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903 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Gu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2971800" cy="134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531960" cy="403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676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AND OF SHAD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91440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ritten upon Viewing “Obama’s Wa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   (the Frontline video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the land of shadows, smoke and s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the gods are ages old, cracked and sh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ive me your hand and I will help you u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 this is Que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 I dare not trust you for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tch the feet.  They tell the 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mping over empty  roads 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shade of stone cliffs ris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y came and burned the market.  Wh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land here opens to a hollow sky and dus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mall arms fire from a distance.  Once my s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fire behind my back and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?  Where?  Over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you are, over here?   No,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did you go?  Once you were 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in hell don’t you speak Engli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o I can understand?   I want to s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 came to help you.  I’m your friend.  What is the wor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’re here to help, I said, to help!  But we have nothing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did you come?  Why don’t you g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ll politics is local. I here.  You t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 Cit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"BATTLES , WEAPONS, AND TECHNOLOGY OF WORLD WAR ONE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FIRST MODERN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zation,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sachem.edu/schools/seneca/socialstudies/guttman/per1/weapons/index.html&gt;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uwer, R. "Weapons of the First World War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World War On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worldwar1.nl/&gt;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ler, Don. "The War That Haunts Us Still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OttawaCitizen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Canwest Publishing, Web. 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media.canada.com/96274514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813-4c74-972a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2d9b889001/somme.jpg&amp;imgrefurl=http://www2.canada.com/ottawacitizen/features/rememb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ce/story.html%3Fid%3D4d04db42-7392-436c-bbb1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89b18a4bffc&amp;usg=__Hxz07sKU5p08iank4JbsoGR8yUk=&amp;h=375&amp;w=375&amp;sz=102&amp;hl=en&amp;sta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t=3&amp;um=1&amp;tbnid=dlyXFt0g4RXcfM:&amp;tbnh=122&amp;tbnw=122&amp;prev=/images%3Fq%3Dworld%2B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r%2B1%2B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ffy, Michael. "Weapons of War - Pistols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First World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Original material, Web. 1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firstworldwar.com/weaponry/pistol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mmerich, Kirk. "M1903 Springfield U.S. Army Service Rifle.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word and Muske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6 Fed 2008. Web. 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www.kirkemmerich.co.uk/wp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tent/uploads/2008/02/1903-springfield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038.jpg&amp;imgrefurl=http://www.kirkemmerich.co.uk/fac-rifles/m1903-springfield-us-army-service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ifle/&amp;us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ckman, Kennedy. "Military History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About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The New York Times Company, Web. 1 Dec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2009. &lt;http://militaryhistory.about.com/od/smallarms/Small_Arms_Personal_Weapon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38Z</dcterms:created>
  <dc:creator>WCPSS</dc:creator>
  <dc:description/>
  <dc:language>en-US</dc:language>
  <cp:lastModifiedBy>Homepc100</cp:lastModifiedBy>
  <dcterms:modified xsi:type="dcterms:W3CDTF">2009-12-02T20:48:40Z</dcterms:modified>
  <cp:revision>10</cp:revision>
  <dc:subject/>
  <dc:title>Small Guns</dc:title>
</cp:coreProperties>
</file>