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764-70B9-43CF-B358-688584ED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4BB-DE42-45E1-BEE6-9EFE2662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88C-B669-49DA-971E-B61B1B5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9A7-F9B1-4ACD-90F6-D23A6F34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A123-1A1A-4446-9C67-035FEDF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BF71-296E-4D7E-8A46-46178E6E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0C2F-1F58-4F2D-8333-B1515E35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9AD-A434-441A-A508-418E964E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551E-0B91-4399-AE5E-C8C29224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D23A-11A5-486C-9B10-922044D6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C009-7789-4308-A1E8-B15F1E0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1F1-09AB-40D7-825A-820EEDBD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D6E6-60D7-4BD2-AF96-88C9C20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3671-7483-4ED7-A205-A3501CC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5875-85AE-407C-9949-0D25C2A3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787C-4BD6-4C06-98DB-BE0D1FED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32D7-9F19-4A8E-B919-054045AE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59926-7F0A-4691-A634-E26C2A01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CAEE-0A00-48F2-A8D7-CE9EFD00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E288-13DA-4F28-8D65-D86B3186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AB02-B6AA-4549-A71C-73F33C0F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1087-400A-48D2-A634-4A6D7CF4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A22-A2BC-41DB-9174-5A48D7F2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6BEE-4A02-4DEE-AB92-407B24D1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5F1E-4CD3-408F-8DB5-EC8FA64B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7E96-D684-47EA-BE49-822C3D1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9BC2-0ED0-4B2D-95A1-1396BD4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EC7D-A60C-4514-BD42-7AAC203E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7319-8EA5-4305-99CB-4178D68B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B3A1-05A0-4443-A0E6-3BB8F084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B6E0-8A12-47FC-9401-175E552D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3515-E8ED-43B4-9093-FDDF1B3E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B539-4DAF-4607-B9A3-6708E467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54E-98E4-48D4-84A7-3E73768E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0853-F5F4-47DB-ABFB-7EBC7D8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D3F2C-E6DD-455E-ADAF-C40E2B6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E91F-D4E6-4083-9E06-0EEDD6DB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DACD-56F9-4758-B579-B6931D3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828F-B931-41FA-9D44-824D584F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B8FB-A9C0-4FEF-AD36-5C5F6E78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9DCD-95A0-45DF-A463-24DAD2C6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C453-132D-460B-9488-D00B6D92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E625-CFD1-4424-99B9-1124844E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E8C21-350A-4E24-8F6D-B873F70F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0F8-4E53-4D66-89A4-BA2B7F8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8C4D4-2A9B-4FC0-84EC-99E74C4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DF7A-929F-4023-9F9A-C87CA095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44AD8-28FD-4A20-8D20-5906FC7A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5B03-7F8A-461A-90D3-A5D7422B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C669-4E38-40B3-B0EB-E5FE7D81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3AF7-F393-4228-B16F-885BF00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DECA-C052-4E29-AE47-D3E613A5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21733-A150-4366-9D7F-5CF3E79F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A5EF-2577-49E8-875E-46E0CC54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161A-6D61-4E38-9CFA-13D88A3B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DC7-3A34-4A13-A306-3ADC033F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90FE1-76EF-458E-9643-020C734A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80F1C-254B-4B19-AD17-6F688D86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D8FE7-F02E-438F-8457-859A7A8C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E03DC-12F4-4DFA-8B02-0735C9AE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C3DC4-DB6E-4C57-AA78-3A8813B7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22235-3398-4B39-B022-A082E7F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DBA13-34CB-46C1-968B-EF2CA66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D6E66-5360-4525-8DEE-C2D45D82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661BE-3816-4BEC-88B2-626C0E12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5B8AF-4125-4783-995D-21A23B6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BE2-8920-4CE9-83B2-FF58E700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CE1A3-3378-45C9-864B-D7EF5B3B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9681-09FC-4941-8506-07CF6DCD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4AC75-798B-4410-9685-18952567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3B10-5A06-486F-91A2-5B15FA9F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7BB1-2755-43AD-B820-8C082B11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6FC5-F8AB-4972-BB3C-AE00EB43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55B9-A5AF-4630-A1F0-A010674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CCC7F-D1E3-4073-B4B5-4F2DB08A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BD743-AB80-43FF-B9C8-D84A40E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67CF0-D019-43D6-8237-75E34F1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829-19E1-4507-BDB3-68F4A2B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EACA-F8AE-4AD9-B0B5-169D57D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8533-D981-4403-ADB9-8926BF7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2D3A-8DA1-46B3-A53C-95B1DCA7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9C7B-DDBF-4EF3-9580-8800A125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65B8-32E2-4793-BAB7-93A2D77D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8C0-F32F-4C4A-A0EA-727269F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796A-A2D4-4136-BED6-60B3741BFBB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91AB-768A-4768-B422-3D41D9094A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6863-3274-4BE8-B9E9-1EA712578C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D679-8AE6-4C10-8A91-2CD9B64F14F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5899-89A5-4C11-83C9-8EBF3B27DA3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4E71-7504-49E9-846B-333E260F3F2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CE1-0651-48CE-955B-23C181DD3DE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hwcdn.net/m5v9i3d8/cds/images/revolver_m1917_colt_700.jpg&amp;imgrefurl=http://www.olive-drab.com/od_other_firearms_pistol_m1917.php3&amp;usg=__4BrG7lmv6paVoPL6RA6W-unN5qU=&amp;h=280&amp;w=504&amp;sz=28&amp;hl=en&amp;start=16&amp;tbnid=iqI4t5oyuBuRPM:&amp;tbnh=72&amp;tbnw=130&amp;prev=/images%3Fq%3Dworld%2Bwar%2B1%2Bpistols%26gbv%3D2%26hl%3Den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ar-arms.com/images/blank1.jpg&amp;imgrefurl=http://www.iar-arms.com/worldwarblanks.htm&amp;usg=__Vptu8DcsZZQv8ZKJ7KSAVoTab0A=&amp;h=265&amp;w=279&amp;sz=8&amp;hl=en&amp;start=1&amp;itbs=1&amp;tbnid=7N4DAq6HRdAFiM:&amp;tbnh=108&amp;tbnw=114&amp;prev=/images%3Fq%3Dworld%2Bwar%2B1%2Bpistols%26gbv%3D2%26hl%3Den%26safe%3Doff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b/Lee-Enfield_Rifle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rick_oleson.tripod.com/dad/03a3-after.jpg&amp;imgrefurl=http://rick_oleson.tripod.com/dad/gunwork.html&amp;usg=__rr2--hEGPIK_GYQRv9Adi8ez08k=&amp;h=436&amp;w=967&amp;sz=102&amp;hl=en&amp;start=10&amp;um=1&amp;tbnid=ojbjbdRI-LJsoM:&amp;tbnh=67&amp;tbnw=148&amp;prev=/images%3Fq%3Dworld%2Bwar%2B1%2Brifle%26hl%3Den%26rlz%3D1R2ADRA_enUS336%26um%3D1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2314"/>
                </a:solidFill>
                <a:latin typeface="Gill Sans MT"/>
              </a:rPr>
              <a:t>Small Guns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Malinda Kee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11" descr="pistol.jpg"/>
          <p:cNvPicPr/>
          <p:nvPr/>
        </p:nvPicPr>
        <p:blipFill>
          <a:blip r:embed="rId2"/>
          <a:stretch/>
        </p:blipFill>
        <p:spPr>
          <a:xfrm>
            <a:off x="3048120" y="1295280"/>
            <a:ext cx="3547800" cy="47545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3048120" y="3886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stol used to start World War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" descr="Webley Mark IV revolver"/>
          <p:cNvPicPr/>
          <p:nvPr/>
        </p:nvPicPr>
        <p:blipFill>
          <a:blip r:embed="rId3"/>
          <a:stretch/>
        </p:blipFill>
        <p:spPr>
          <a:xfrm>
            <a:off x="1676520" y="4572000"/>
            <a:ext cx="2438280" cy="153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419560" cy="1814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2362320"/>
            <a:ext cx="1524240" cy="84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4475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ree Types of 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http://t3.gstatic.com/images?q=tbn:7N4DAq6HRdAFiM:http://www.iar-arms.com/images/blank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3880"/>
            <a:ext cx="2057400" cy="19479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5"/>
          <p:cNvSpPr/>
          <p:nvPr/>
        </p:nvSpPr>
        <p:spPr>
          <a:xfrm>
            <a:off x="586728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rman blowbac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2514600" cy="1922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625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1447920" y="1515960"/>
            <a:ext cx="2666880" cy="1825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28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38600" cy="3962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8862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File:Lee-Enfield Rif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600200"/>
            <a:ext cx="4953240" cy="1157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62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-Enfiel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600200" y="3751200"/>
            <a:ext cx="2971800" cy="2238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4800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" descr="whole 1903"/>
          <p:cNvPicPr/>
          <p:nvPr/>
        </p:nvPicPr>
        <p:blipFill>
          <a:blip r:embed="rId5"/>
          <a:stretch/>
        </p:blipFill>
        <p:spPr>
          <a:xfrm>
            <a:off x="5105520" y="3581280"/>
            <a:ext cx="3047760" cy="1957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4100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903 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Gu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981080"/>
            <a:ext cx="2971800" cy="1346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531960" cy="4038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676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AND OF SHAD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320" y="91440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ritten upon Viewing “Obama’s Wa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   (the Frontline video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the land of shadows, smoke and s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the gods are ages old, cracked and sh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ive me your hand and I will help you up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 this is Que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d I dare not trust you for tomor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tch the feet.  They tell the 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ramping over empty  roads 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shade of stone cliffs ris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y came and burned the market.  Wh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land here opens to a hollow sky and dus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mall arms fire from a distance.  Once my s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fire behind my back and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?  Where?  Over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you are, over here?   No,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did you go?  Once you were 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in hell don’t you speak Engli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o I can understand?   I want to s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 came to help you.  I’m your friend.  What is the wor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’re here to help, I said, to help!  But we have nothing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did you come?  Why don’t you g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ll politics is local. I here.  You t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 Cit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"BATTLES , WEAPONS, AND TECHNOLOGY OF WORLD WAR ONE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FIRST MODERN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zation,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sachem.edu/schools/seneca/socialstudies/guttman/per1/weapons/index.html&gt;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rouwer, R. "Weapons of the First World War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World War On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worldwar1.nl/&gt;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ler, Don. "The War That Haunts Us Still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OttawaCitizen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Canwest Publishing, Web. 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media.canada.com/96274514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813-4c74-972a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2d9b889001/somme.jpg&amp;imgrefurl=http://www2.canada.com/ottawacitizen/features/rememb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ce/story.html%3Fid%3D4d04db42-7392-436c-bbb1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89b18a4bffc&amp;usg=__Hxz07sKU5p08iank4JbsoGR8yUk=&amp;h=375&amp;w=375&amp;sz=102&amp;hl=en&amp;sta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t=3&amp;um=1&amp;tbnid=dlyXFt0g4RXcfM:&amp;tbnh=122&amp;tbnw=122&amp;prev=/images%3Fq%3Dworld%2B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r%2B1%2B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ffy, Michael. "Weapons of War - Pistols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First World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Original material, Web. 1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firstworldwar.com/weaponry/pistol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mmerich, Kirk. "M1903 Springfield U.S. Army Service Rifle.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word and Muske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6 Fed 2008. Web. 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www.kirkemmerich.co.uk/wp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tent/uploads/2008/02/1903-springfield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038.jpg&amp;imgrefurl=http://www.kirkemmerich.co.uk/fac-rifles/m1903-springfield-us-army-service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ifle/&amp;us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ckman, Kennedy. "Military History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About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The New York Times Company, Web. 1 Dec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2009. &lt;http://militaryhistory.about.com/od/smallarms/Small_Arms_Personal_Weapon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38Z</dcterms:created>
  <dc:creator>WCPSS</dc:creator>
  <dc:description/>
  <dc:language>en-US</dc:language>
  <cp:lastModifiedBy>Homepc100</cp:lastModifiedBy>
  <dcterms:modified xsi:type="dcterms:W3CDTF">2009-12-02T20:48:40Z</dcterms:modified>
  <cp:revision>10</cp:revision>
  <dc:subject/>
  <dc:title>Small Guns</dc:title>
</cp:coreProperties>
</file>