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64A-2B0A-4DDB-A6C6-0E8AB427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C36-8EEB-4AAC-8589-A7728ECB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68E-E339-4313-BE68-58932447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B68-D872-43C8-87B7-99249726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8FBE-74AA-4C8E-A1E8-90547B40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2A84-FD18-49BA-A8E0-C173BE56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ACE5-7A12-4554-B22A-D9EF1379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2A23-B609-499E-B969-BB6BC0B8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26AF-9BED-47BD-82A3-DC51AE56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0854-D0C9-464C-92DC-F44007D3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5693-CEAA-45C3-9D02-18F883F6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4E3-D723-4B0D-8D69-62592902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9064-2B86-4988-9EC5-3022B47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DF1F-97D4-4C7C-9A7E-3291D220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1324-470F-4CE0-B335-ED2C0819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25D9-20D0-4CB8-ACBB-C4B97A21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0AFD-C28C-4586-B173-F930D47B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02C53-2759-4D56-BD07-8A1BD1BD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26C2-F868-4C67-AF1D-6FF2BCBB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D77A-600B-4D83-A904-2C82E22B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5FAA-1794-485F-9696-1A485291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9602-60DE-4D7D-94D9-33CD4EBC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AE5-604E-4910-87AF-7C109411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9894-DEC4-4D34-A709-C9DD918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84B3-552B-415D-B354-076D30F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E861D-B3A6-40CE-BD54-A54414F4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B0F8-3C3D-4030-849D-BA6088E2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0FA8-5835-4900-8B50-A300D481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1944-18AD-45C5-B990-C89BCC35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C493-8E1B-412B-9BEB-99ABE3A1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471E-F784-42A4-BE35-BF465C29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40C9C-309F-4AD4-88A2-85F6F3DD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1909F-7868-4A8A-885C-2BC8BE48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E2B-B435-4156-903D-698E48D2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85C20-7ECD-4578-B1D3-5EF286AF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1A57-FD22-4CB6-AEE2-82F86A1C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18A2-ECB4-46A3-8E8D-98167011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0641D-0C50-44E5-AA8F-71DA11D7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C6B0-5116-449A-A9C9-15FF0458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BDEA1-6769-464D-883D-2CED900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9CC53-5C3E-427E-B54D-533695AC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4CF7B-8179-4261-867D-A12A77E7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40CFE-6E65-413C-BF40-B19E3FEB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3C2A4-7BF3-47D9-9937-473008FA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83D-4310-41A2-903E-7E8BEE25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4249E-F708-4DB9-9A1E-F86C9C74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3FB8-C152-4E6A-BEBE-B635325B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5FE93-7284-4972-BD56-2A41FEFB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007C0-DA4B-4E75-B057-FE8C208C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8B5D3-5D2C-4949-8608-E024F1F3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06176-8986-4B44-9007-EEE12CF6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1017-E832-4F0C-8DC2-A3537B5D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40323-8D88-436F-A9C7-58EA1FB5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1A408-F98C-43CE-AE4E-E45337BF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33169-9B53-4518-A885-82FFD5C2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0CE-5749-48F9-B1B5-0B83074F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0DAE0-A8C4-4697-BC09-71840AFD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49B3-F6DC-46D8-8375-047A0CAC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71972-B044-4EC9-8BA2-898537BC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8BE72-7C29-4DF3-AC06-A04272DC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6306-2845-4176-BEB0-B1E4E05A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94573-04E3-45C5-8E39-FEF8A618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F8DB7-2EB7-4E55-90C4-F961F583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1958F-9054-4129-B84B-AE810C84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010C3-EA0F-4433-8EC2-887E4453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49F80-83F0-4605-BAED-66DAD964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BD4-96A3-4982-AB0F-35353E8B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D5B1B-0685-4D7D-8833-401EE2B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57D9C-F4E3-429B-AD06-F496678D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F4288-7FFC-430A-9F25-7F02BAF4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BB31B-967A-4C6A-B5BD-4EA1BD92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B7EB6-47C1-46B0-8984-E833D4D1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5AFF2-FC36-4E48-A6E1-85730026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29098-5582-4147-A603-665FEFD5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4D615-B885-41C0-BA29-FDE50D09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5B5BC-F42F-47C3-93D4-7DE2483C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9DD28-AC46-4171-BF76-532F2C8A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E2D-7433-44AF-A72D-A2E245ED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D0C66-7B9D-4CAD-AD16-2E801D19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FC82D-B1AB-4F0A-AD04-1D2A4342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32B02-E1CA-48C1-B72E-CF9D7C09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C9179-5FDF-4524-80B7-6E4089D1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C0908-F0CB-4CDD-B1E9-020E3C9B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610-AD4B-456D-B147-D7A0020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7DA6-068E-4872-ADA4-0B1ADDB67D0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184C-2A1F-49AE-98BA-2EDABDFCB32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8D8C-C41D-4722-B881-99FAE336350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0799-74BD-46FD-9F52-7709C360585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D1B4-1318-455B-BACD-569AC3656E8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529C-4DF0-47BA-8FC2-EC51CDD391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08BA-2A3A-41EB-B1A1-13654AB0FB0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hwcdn.net/m5v9i3d8/cds/images/revolver_m1917_colt_700.jpg&amp;imgrefurl=http://www.olive-drab.com/od_other_firearms_pistol_m1917.php3&amp;usg=__4BrG7lmv6paVoPL6RA6W-unN5qU=&amp;h=280&amp;w=504&amp;sz=28&amp;hl=en&amp;start=16&amp;tbnid=iqI4t5oyuBuRPM:&amp;tbnh=72&amp;tbnw=130&amp;prev=/images%3Fq%3Dworld%2Bwar%2B1%2Bpistols%26gbv%3D2%26hl%3Den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iar-arms.com/images/blank1.jpg&amp;imgrefurl=http://www.iar-arms.com/worldwarblanks.htm&amp;usg=__Vptu8DcsZZQv8ZKJ7KSAVoTab0A=&amp;h=265&amp;w=279&amp;sz=8&amp;hl=en&amp;start=1&amp;itbs=1&amp;tbnid=7N4DAq6HRdAFiM:&amp;tbnh=108&amp;tbnw=114&amp;prev=/images%3Fq%3Dworld%2Bwar%2B1%2Bpistols%26gbv%3D2%26hl%3Den%26safe%3Doff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b/Lee-Enfield_Rifle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rick_oleson.tripod.com/dad/03a3-after.jpg&amp;imgrefurl=http://rick_oleson.tripod.com/dad/gunwork.html&amp;usg=__rr2--hEGPIK_GYQRv9Adi8ez08k=&amp;h=436&amp;w=967&amp;sz=102&amp;hl=en&amp;start=10&amp;um=1&amp;tbnid=ojbjbdRI-LJsoM:&amp;tbnh=67&amp;tbnw=148&amp;prev=/images%3Fq%3Dworld%2Bwar%2B1%2Brifle%26hl%3Den%26rlz%3D1R2ADRA_enUS336%26um%3D1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72314"/>
                </a:solidFill>
                <a:latin typeface="Gill Sans MT"/>
              </a:rPr>
              <a:t>Small Guns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Malinda Kee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11" descr="pistol.jpg"/>
          <p:cNvPicPr/>
          <p:nvPr/>
        </p:nvPicPr>
        <p:blipFill>
          <a:blip r:embed="rId2"/>
          <a:stretch/>
        </p:blipFill>
        <p:spPr>
          <a:xfrm>
            <a:off x="3048120" y="1295280"/>
            <a:ext cx="3547800" cy="47545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2"/>
          <p:cNvSpPr/>
          <p:nvPr/>
        </p:nvSpPr>
        <p:spPr>
          <a:xfrm>
            <a:off x="3048120" y="3886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istol used to start World War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" descr="Webley Mark IV revolver"/>
          <p:cNvPicPr/>
          <p:nvPr/>
        </p:nvPicPr>
        <p:blipFill>
          <a:blip r:embed="rId3"/>
          <a:stretch/>
        </p:blipFill>
        <p:spPr>
          <a:xfrm>
            <a:off x="1676520" y="4572000"/>
            <a:ext cx="2438280" cy="1536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6095880" y="4419720"/>
            <a:ext cx="2419560" cy="1814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95280" y="2362320"/>
            <a:ext cx="1524240" cy="844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4475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ree Types of 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6" descr="http://t3.gstatic.com/images?q=tbn:7N4DAq6HRdAFiM:http://www.iar-arms.com/images/blank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523880"/>
            <a:ext cx="2057400" cy="19479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5"/>
          <p:cNvSpPr/>
          <p:nvPr/>
        </p:nvSpPr>
        <p:spPr>
          <a:xfrm>
            <a:off x="586728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erman blowbac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3657600" y="4038480"/>
            <a:ext cx="2514600" cy="1922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62520" y="6019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1447920" y="1515960"/>
            <a:ext cx="2666880" cy="1825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2880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ve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2838600" cy="39621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388620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" descr="File:Lee-Enfield Rif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600200"/>
            <a:ext cx="4953240" cy="1157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62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-Enfiel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1600200" y="3751200"/>
            <a:ext cx="2971800" cy="2238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876920" y="48006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s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" descr="whole 1903"/>
          <p:cNvPicPr/>
          <p:nvPr/>
        </p:nvPicPr>
        <p:blipFill>
          <a:blip r:embed="rId5"/>
          <a:stretch/>
        </p:blipFill>
        <p:spPr>
          <a:xfrm>
            <a:off x="5105520" y="3581280"/>
            <a:ext cx="3047760" cy="19576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4100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903 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re Gu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1981080"/>
            <a:ext cx="2971800" cy="1346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4876920" y="1828800"/>
            <a:ext cx="3531960" cy="40384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167652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LAND OF SHADO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66320" y="914400"/>
            <a:ext cx="749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9960" indent="-240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ritten upon Viewing “Obama’s Wa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    (the Frontline video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n the land of shadows, smoke and s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the gods are ages old, cracked and sh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Give me your hand and I will help you up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 this is Quet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d I dare not trust you for tomor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tch the feet.  They tell the 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ramping over empty  roads 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shade of stone cliffs ris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y came and burned the market.  Wh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land here opens to a hollow sky and dus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mall arms fire from a distance.  Once my s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fire behind my back and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?  Where?  Over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you are, over here?   No,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did you go?  Once you were he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in hell don’t you speak Engli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o I can understand?   I want to s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 came to help you.  I’m your friend.  What is the wor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’re here to help, I said, to help!  But we have nothing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did you come?  Why don’t you g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ll politics is local. I here.  You the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ork Cit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"BATTLES , WEAPONS, AND TECHNOLOGY OF WORLD WAR ONE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THE FIRST MODERN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rganization,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sachem.edu/schools/seneca/socialstudies/guttman/per1/weapons/index.html&gt;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rouwer, R. "Weapons of the First World War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World War One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worldwar1.nl/&gt;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ler, Don. "The War That Haunts Us Still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OttawaCitizen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Canwest Publishing, Web. 1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media.canada.com/96274514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813-4c74-972a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2d9b889001/somme.jpg&amp;imgrefurl=http://www2.canada.com/ottawacitizen/features/rememb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ce/story.html%3Fid%3D4d04db42-7392-436c-bbb1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989b18a4bffc&amp;usg=__Hxz07sKU5p08iank4JbsoGR8yUk=&amp;h=375&amp;w=375&amp;sz=102&amp;hl=en&amp;sta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t=3&amp;um=1&amp;tbnid=dlyXFt0g4RXcfM:&amp;tbnh=122&amp;tbnw=122&amp;prev=/images%3Fq%3Dworld%2B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r%2B1%2B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uffy, Michael. "Weapons of War - Pistols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First World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Original material, Web. 1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firstworldwar.com/weaponry/pistol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mmerich, Kirk. "M1903 Springfield U.S. Army Service Rifle.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Sword and Muske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6 Fed 2008. Web. 2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www.kirkemmerich.co.uk/wp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ntent/uploads/2008/02/1903-springfield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038.jpg&amp;imgrefurl=http://www.kirkemmerich.co.uk/fac-rifles/m1903-springfield-us-army-service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ifle/&amp;usg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ickman, Kennedy. "Military History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About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The New York Times Company, Web. 1 Dec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2009. &lt;http://militaryhistory.about.com/od/smallarms/Small_Arms_Personal_Weapon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2:38Z</dcterms:created>
  <dc:creator>WCPSS</dc:creator>
  <dc:description/>
  <dc:language>en-US</dc:language>
  <cp:lastModifiedBy>Homepc100</cp:lastModifiedBy>
  <dcterms:modified xsi:type="dcterms:W3CDTF">2009-12-02T20:48:40Z</dcterms:modified>
  <cp:revision>10</cp:revision>
  <dc:subject/>
  <dc:title>Small Guns</dc:title>
</cp:coreProperties>
</file>