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243-8A91-43C8-B542-6EBE22B7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A38-5B1A-419C-86B1-524951FF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E34-D258-4FC4-875C-1D34F433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78E-8776-42C1-969E-AF621ED9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5B89-7191-4771-B692-1C9A2607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E48-92BE-4D41-A322-7ACBCE1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B26A-9C58-472A-94CA-2F27C5C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EA1-EDB1-4FA7-A4DA-29F0B41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CC54-49AF-428D-A3D3-33F5A42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6402-0088-4B8D-9B72-A225A19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B678-FF39-42E9-9405-CC2077E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EDE-8A10-44C3-B058-66FF53B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EDB6-8130-41D0-AABA-7A787396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CD9-9C75-4311-B2BF-20FFABE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56E-4596-41D2-8A6C-51682B0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B44-C607-44C9-A6D5-A4BC849D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62D7-9538-4B47-BD95-E56877FA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0092-245E-452E-A353-1FB989E7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3BA9-9205-4A59-94DD-E9D1DBD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93E5-BF9A-4624-9B9D-CB73A5E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5478-05AB-4E59-9F67-363F2BB0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430C-B2FB-469B-88A3-55F2E1B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FFA-F7C2-4D3D-B3FC-326F22B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2540E-C170-40D5-8BD4-8F3A398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9B67-29C3-4B4E-939D-BFF5078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4D51-B63C-4568-AFFC-4397FC4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9BF8-F3DD-4934-805D-5E4014A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5B99-89B6-4B43-BEB7-0696E13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5735-2022-4CCA-B2BA-F65F7063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DCCB-3A1F-4862-956E-347F728A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AE29-0E5D-4C21-9542-B0028852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5F7F-7A6B-44C1-973D-593CCA7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2FB3-6D1E-4198-BF93-F30EBFE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488-6373-4DCF-9141-169B236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B7D5-0CDD-4E69-AF0B-3866B387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EE06-5BF5-4F0D-8CC3-257C2B9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108A-4502-46B0-A7BB-6E6915F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0F98-108F-4F4F-A46E-03907CD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0656-DBD8-44D4-8E49-E48DA89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DD25-A137-4225-8D41-1CCEA98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A9F1-591C-4C5E-97E3-468E5D04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2ABF-0DC3-46AA-A009-2047D77E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3839-C934-423E-9D45-62240B29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639F-E2B5-44FB-BF05-C1AF789F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6DE-22CB-4D71-9E42-CF65765B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D2DC-F5D6-4544-8503-278F2B02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7E38-0BA0-47BD-98FB-B6D5CC1C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1803-6534-445C-9335-419EADB9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65402-5F94-4BDE-8C95-D6964BA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7C4B-91EA-4136-BED2-0F0D90B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3C7C-7856-4BF7-8C4B-D60358E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80A0-8870-4631-8F11-C8F7FF2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B5067-705F-4100-8EA2-29C3C9E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2D79-639F-43FC-8D13-ABDF3ED1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6339-EF71-43C2-95EC-039D214E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0AB-6864-49B5-B026-E0134FE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882D-4097-4C2A-8053-357338B6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5397-9A3F-4590-9A5F-6444E2C1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CCB86-E7BB-4511-9B90-BA8A374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FD78-7F19-4EC2-A2AF-69543FE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D0DC-D5AC-4B57-A49C-2CE38B5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626E8-431E-4D81-8AC4-85AF867A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70219-BC98-4866-A3B8-4281EF6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9072-3035-4A04-A2DB-841A336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0D53-7D77-4BD1-A432-A05ABE2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FB07A-79A0-4F17-8DA5-F85F116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B88-EA93-49E2-87D3-509089A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902A-2D08-4A76-AE95-C0BFB607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27052-E0E1-4E77-9185-491E591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5757-F04B-45E6-8A4B-DE21E5A2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4D4B9-627A-4E75-8088-3011BB53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060D-0E75-4229-92AC-3F438C1D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B3EC-248C-4F9D-9206-8DF1D4D8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2D73-D46F-41C6-9312-C04D5CE4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DE6F0-8DC8-4A6D-B28F-7FFB64F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4D55-447D-442F-A986-876C7487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2E6A8-5AF1-42D1-B83C-6EC900C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FE3-D36F-4E49-B6B2-1FDA451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D76B-BC5E-4042-810E-47F9E6E3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DDD1-50FE-474C-9516-67677018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E606-C124-4780-ADD3-F861F4D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9FE0-7029-421A-A927-BE1029B1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BD42-176B-474F-9B18-85FC716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210-3B3E-4F12-816D-FA45CF22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A49D-30F1-4C9D-B08B-2456ECB3A5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DF3-39B1-4996-A394-A345CFDA2B3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A197-C72A-4CA6-B7E8-4BF86795AC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9EF8-EE6F-4ED6-96C9-6ABD7C5E1B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EC43-E213-49CF-999B-5F689F30E3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A97-4382-4A9F-83CF-0A724247F6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B047-FA04-438F-913D-A78906A4E8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hwcdn.net/m5v9i3d8/cds/images/revolver_m1917_colt_700.jpg&amp;imgrefurl=http://www.olive-drab.com/od_other_firearms_pistol_m1917.php3&amp;usg=__4BrG7lmv6paVoPL6RA6W-unN5qU=&amp;h=280&amp;w=504&amp;sz=28&amp;hl=en&amp;start=16&amp;tbnid=iqI4t5oyuBuRPM:&amp;tbnh=72&amp;tbnw=130&amp;prev=/images%3Fq%3Dworld%2Bwar%2B1%2Bpistols%26gbv%3D2%26hl%3Den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iar-arms.com/images/blank1.jpg&amp;imgrefurl=http://www.iar-arms.com/worldwarblanks.htm&amp;usg=__Vptu8DcsZZQv8ZKJ7KSAVoTab0A=&amp;h=265&amp;w=279&amp;sz=8&amp;hl=en&amp;start=1&amp;itbs=1&amp;tbnid=7N4DAq6HRdAFiM:&amp;tbnh=108&amp;tbnw=114&amp;prev=/images%3Fq%3Dworld%2Bwar%2B1%2Bpistols%26gbv%3D2%26hl%3Den%26safe%3Doff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b/Lee-Enfield_Rifle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rick_oleson.tripod.com/dad/03a3-after.jpg&amp;imgrefurl=http://rick_oleson.tripod.com/dad/gunwork.html&amp;usg=__rr2--hEGPIK_GYQRv9Adi8ez08k=&amp;h=436&amp;w=967&amp;sz=102&amp;hl=en&amp;start=10&amp;um=1&amp;tbnid=ojbjbdRI-LJsoM:&amp;tbnh=67&amp;tbnw=148&amp;prev=/images%3Fq%3Dworld%2Bwar%2B1%2Brifle%26hl%3Den%26rlz%3D1R2ADRA_enUS336%26um%3D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2314"/>
                </a:solidFill>
                <a:latin typeface="Gill Sans MT"/>
              </a:rPr>
              <a:t>Small Guns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e04"/>
                </a:solidFill>
                <a:latin typeface="Gill Sans MT"/>
              </a:rPr>
              <a:t>Malinda Kee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11" descr="pistol.jpg"/>
          <p:cNvPicPr/>
          <p:nvPr/>
        </p:nvPicPr>
        <p:blipFill>
          <a:blip r:embed="rId2"/>
          <a:stretch/>
        </p:blipFill>
        <p:spPr>
          <a:xfrm>
            <a:off x="3048120" y="1295280"/>
            <a:ext cx="3547800" cy="47545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2"/>
          <p:cNvSpPr/>
          <p:nvPr/>
        </p:nvSpPr>
        <p:spPr>
          <a:xfrm>
            <a:off x="3048120" y="38862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istol used to start World War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" descr="Webley Mark IV revolver"/>
          <p:cNvPicPr/>
          <p:nvPr/>
        </p:nvPicPr>
        <p:blipFill>
          <a:blip r:embed="rId3"/>
          <a:stretch/>
        </p:blipFill>
        <p:spPr>
          <a:xfrm>
            <a:off x="1676520" y="4572000"/>
            <a:ext cx="2438280" cy="1536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419560" cy="1814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362320"/>
            <a:ext cx="1524240" cy="84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4475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ree Types of Pisto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6" descr="http://t3.gstatic.com/images?q=tbn:7N4DAq6HRdAFiM:http://www.iar-arms.com/images/blank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3880"/>
            <a:ext cx="2057400" cy="19479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5"/>
          <p:cNvSpPr/>
          <p:nvPr/>
        </p:nvSpPr>
        <p:spPr>
          <a:xfrm>
            <a:off x="586728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erman blowbac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2514600" cy="1922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62520" y="6019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1447920" y="1515960"/>
            <a:ext cx="2666880" cy="18255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2880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ver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38600" cy="3962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8862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Rif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File:Lee-Enfield Rif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600200"/>
            <a:ext cx="4953240" cy="1157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62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-Enfiel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600200" y="3751200"/>
            <a:ext cx="2971800" cy="2238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4800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u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" descr="whole 1903"/>
          <p:cNvPicPr/>
          <p:nvPr/>
        </p:nvPicPr>
        <p:blipFill>
          <a:blip r:embed="rId5"/>
          <a:stretch/>
        </p:blipFill>
        <p:spPr>
          <a:xfrm>
            <a:off x="5105520" y="3581280"/>
            <a:ext cx="3047760" cy="1957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4100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903 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Gu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2971800" cy="1346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531960" cy="40384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676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AND OF SHADOW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66320" y="914400"/>
            <a:ext cx="7497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0996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ritten upon Viewing “Obama’s Wa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     (the Frontline video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n the land of shadows, smoke and s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the gods are ages old, cracked and sh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Give me your hand and I will help you up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 this is Que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d I dare not trust you for tomor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tch the feet.  They tell the 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ramping over empty  roads 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shade of stone cliffs ris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y came and burned the market.  Wh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he land here opens to a hollow sky and dus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mall arms fire from a distance.  Once my s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fire behind my back and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?  Where?  Over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you are, over here?   No, there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ere did you go?  Once you were he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in hell don’t you speak Engli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o I can understand?   I want to s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 came to help you.  I’m your friend.  What is the wor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ow let us pr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e’re here to help, I said, to help!  But we have nothing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hy did you come?  Why don’t you go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ll politics is local. I here.  You the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Let us pra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ork Cit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"BATTLES , WEAPONS, AND TECHNOLOGY OF WORLD WAR ONE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THE FIRST MODERN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rganization,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sachem.edu/schools/seneca/socialstudies/guttman/per1/weapons/index.html&gt;.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rouwer, R. "Weapons of the First World War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World War One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Web. 2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worldwar1.nl/&gt;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utler, Don. "The War That Haunts Us Still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OttawaCitizen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Canwest Publishing, Web. 1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media.canada.com/96274514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813-4c74-972a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2d9b889001/somme.jpg&amp;imgrefurl=http://www2.canada.com/ottawacitizen/features/rememb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ance/story.html%3Fid%3D4d04db42-7392-436c-bbb1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989b18a4bffc&amp;usg=__Hxz07sKU5p08iank4JbsoGR8yUk=&amp;h=375&amp;w=375&amp;sz=102&amp;hl=en&amp;sta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t=3&amp;um=1&amp;tbnid=dlyXFt0g4RXcfM:&amp;tbnh=122&amp;tbnw=122&amp;prev=/images%3Fq%3Dworld%2B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war%2B1%2B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uffy, Michael. "Weapons of War - Pistols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First World War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Original material, Web. 1 Dec 2009.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ttp://www.firstworldwar.com/weaponry/pistol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Emmerich, Kirk. "M1903 Springfield U.S. Army Service Rifle.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Sword and Muske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6 Fed 2008. Web. 2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c 2009. &lt;http://images.google.com/imgres?imgurl=http://www.kirkemmerich.co.uk/wp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ntent/uploads/2008/02/1903-springfield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038.jpg&amp;imgrefurl=http://www.kirkemmerich.co.uk/fac-rifles/m1903-springfield-us-army-service-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ifle/&amp;usg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Hickman, Kennedy. "Military History."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About.com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. 2009. The New York Times Company, Web. 1 Dec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2009. &lt;http://militaryhistory.about.com/od/smallarms/Small_Arms_Personal_Weapons.htm&gt;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38Z</dcterms:created>
  <dc:creator>WCPSS</dc:creator>
  <dc:description/>
  <dc:language>en-US</dc:language>
  <cp:lastModifiedBy>Homepc100</cp:lastModifiedBy>
  <dcterms:modified xsi:type="dcterms:W3CDTF">2009-12-02T20:48:40Z</dcterms:modified>
  <cp:revision>10</cp:revision>
  <dc:subject/>
  <dc:title>Small Guns</dc:title>
</cp:coreProperties>
</file>